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28.png" ContentType="image/png"/>
  <Override PartName="/ppt/media/image21.jpeg" ContentType="image/jpeg"/>
  <Override PartName="/ppt/media/image29.png" ContentType="image/png"/>
  <Override PartName="/ppt/media/image13.jpeg" ContentType="image/jpeg"/>
  <Override PartName="/ppt/media/image23.png" ContentType="image/png"/>
  <Override PartName="/ppt/media/image5.jpeg" ContentType="image/jpeg"/>
  <Override PartName="/ppt/media/image26.jpeg" ContentType="image/jpeg"/>
  <Override PartName="/ppt/media/image6.png" ContentType="image/png"/>
  <Override PartName="/ppt/media/image31.png" ContentType="image/pn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7.wmf" ContentType="image/x-wmf"/>
  <Override PartName="/ppt/media/image12.png" ContentType="image/png"/>
  <Override PartName="/ppt/media/image19.png" ContentType="image/png"/>
  <Override PartName="/ppt/media/image20.jpeg" ContentType="image/jpeg"/>
  <Override PartName="/ppt/media/image30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22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27.jpeg" ContentType="image/jpeg"/>
  <Override PartName="/ppt/media/image1.jpeg" ContentType="image/jpeg"/>
  <Override PartName="/ppt/media/image10.png" ContentType="image/png"/>
  <Override PartName="/ppt/media/image24.jpeg" ContentType="image/jpeg"/>
  <Override PartName="/ppt/media/image16.png" ContentType="image/png"/>
  <Override PartName="/ppt/media/image17.png" ContentType="image/png"/>
  <Override PartName="/ppt/media/image15.png" ContentType="image/png"/>
  <Override PartName="/ppt/media/image18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C56AB-01F4-4BAB-8351-3516C62B13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5E698-50D0-4F4A-BE7F-259233CE49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E6000-03F2-4B78-9AAB-6503E44E83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A50EE-8E10-4225-86D9-9FE6B13076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11AB6-5C52-4F4F-9141-E9925A249B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B1D39-728A-43B8-B227-588F202D29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B0A7B-F6B5-4DC2-B3BC-C18B7280B7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2E880-A4D5-43CE-B080-B987BF92B8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9FC25-BC18-436B-8FA5-C60CFCEB1D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C657B-8CDE-4760-B240-638B0A4640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9F3E5-28A9-40F8-88BC-0E807877F2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52395-C493-43E9-B627-B67A0A79CE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2F149-3665-4DF5-8605-15914028FD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607CD-BDC6-4470-B510-4A4C9C06C5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C786E-2521-4F06-9CEE-605F035AF1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139DE-6524-4FFB-BF09-D2BD4A666B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1B8C2-458D-41A4-A11C-5D1A47C689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CD51E-A272-438A-9B77-919AE406E5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F5499-B2F2-40E7-90EF-126BE5D2C2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329EC-56AD-405D-A51D-AFAAD24965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te any paperwork that hasn't yet been do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8D7E3-08ED-42A1-B170-B34D499FB7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expectations come from Milestone 60 which you will be administering at the end of the last sess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28B16-38D5-4EE7-8FF2-EEAA661BEC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637E7-8165-4367-8DFB-CCD2A9837C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239C5-3D1A-488B-89E3-8859586321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ECCE8-1639-4E4B-9E98-E40B46B69A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0837-B971-43C1-8ED2-91DFA3FEF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82FB-F069-4E93-A678-E64664BB3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31D051-B153-49F0-9F5A-E472A7BD0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915B6B-EAF5-4057-AA45-8EEF0E12E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85A041-DDC4-4A01-9038-B8A1A7C35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16D0F3-C5B0-4D34-ABFC-EC007E7E4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321F30-9497-48B7-AF2B-46CF1E21B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923138-72FB-4210-BB49-3A4869865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8D86E1-0C16-47C4-AB2D-592E662B6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0D060E-87C5-4E5F-9FDF-E4F4E843A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E98A53-808B-4056-B21B-BEF3C0BF4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21432F-3959-427A-A264-F80C2280D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3F3A-6F5C-41DC-83FB-A6CBF8A57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3F4492-6DFC-4AB6-B324-CAA2EB7E1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1BEC23-B531-44B2-921E-746388FA3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3A0911-C7BF-4A2A-B78F-77050260C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A53EF1-49D1-4459-87B8-1A43B57B4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92D07A-60F0-422B-A54E-56F71D8C6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45E36A-C705-4EA9-A90D-CE16AE277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048797-E8A0-4F7F-8580-B8BB0EBAC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FA3BC9-0259-4AD8-AF79-36AF62116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A1484B-8E57-45D7-8E67-1EC704159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2C6143-C1F7-4844-8742-C3B0CBDB4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063A-C146-485D-8EB9-C823C4FFA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F3B2EE-4F47-46FF-952D-F61E35874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CF2AEA-316F-4BD6-B4F1-174D7FD68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BCFC1B-38FF-4DF1-94A0-399FC1A97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E3C11E-F9A3-4B74-A032-6F41E1549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FD185F-0ECE-4188-8ECE-8D1564114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182EE9-21A1-433E-A4B0-C61442B02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2E88DE-E187-49AD-B101-887DA9981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F714E3-EF4A-4F8C-9C51-6771E1F29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AA039A-D8DC-4933-8A7B-77716FF50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5D7348-8BD3-4B79-9CDE-5466E7762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613CE-45C2-4D45-AE53-07319732E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64758C-4F17-4DB7-B7C0-A9776AA23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3A2B64-B60F-4726-99B2-B52C9CD69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89F744-8208-4183-B63B-833DD8A85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9777E2-7DAE-433B-8198-54A223687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111F8E-A53B-4237-A1EB-49EE4E4F6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C58A60-5C98-4688-BF2A-74F9ED009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53E2FB-D8A9-42D2-98BF-68ECA931B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C40A87-FF6F-4E07-A488-65B9A26CA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D59214-DBFE-4B82-9E92-0E252D0AF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5B913F-402C-413F-B181-B95076F0E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3FD4A-CEFA-4A19-9A5D-DF4645997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C16837-5406-4879-A395-672E03683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F54210-15A3-4CFF-8EC5-2336347AC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75CC98-887A-4505-8C51-5338D17BD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64159A-1AD6-4541-AC18-B69C8F224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F09D7E-8158-447F-BFCB-B05ADC467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1F007-4B93-4F08-9EC6-D62D357EB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BD5FC-AA4B-4F71-9694-4C0F89A90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412FE-3690-43EA-A436-9E56515CB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3D228-EFBF-4BF7-9DB7-EACEC4966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FE205-9A7E-4C0A-9878-3566DB01A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45C4-4647-434F-A874-F887D69A4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11889-84A1-4616-A48B-7AA02DCA2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5D7EC-0CD3-46DA-A563-7333E0639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3BFC7-886E-4568-8343-AF1E81CEC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2E126-3551-4F3D-9000-7CB590348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FD0F9-EE6F-4698-8374-1143DB9A4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D4DD5D-0597-4F9D-BDD4-C264B981B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546868-6B70-4B2C-AB86-D527A0CF5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0103CE-5F5B-4BE0-92F9-1BCD2F4C3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312375-1F63-4CE0-A2A4-F2736E024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E2C276-1982-4760-81B3-AF8DF5B2A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103A-F0BE-4AC3-AF00-1FA6BD0EF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C09848-E838-4DD3-9FE0-74C9F6C9F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0CACB1-AF4B-4A11-BEDD-FA681F213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AEDF4C-4A3E-4563-AB6B-42D066C47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2A4C71-9BBC-4F69-AE65-A879AFA82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4F4C08-02B7-48A5-902C-B1182E43C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BA5266-EA8D-4A5B-BE4C-A489F674A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565E84-6599-4B89-BF45-84B2B586A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E4DE8D-C68A-4826-A282-4A57EECC9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B8E1B5-13C7-49BE-8AF7-94F820830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646BCB-A304-4705-9E34-9D2970BD1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C850-D0AE-4C91-B073-5A2795B47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837AD8-441D-4467-81FC-1E3517658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6D720F-EA8F-4ED9-8D4F-7004DE08D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EA57C7-7E9C-474A-B53C-DEC271084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FB62D5-E4F1-4D19-9884-4AD0AEB96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8184C1-8B2B-4FC3-BF90-EE545A915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89CB6C-15F0-41C8-88EA-2D9C9C737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E07F15-2FE4-4E8E-99D6-63D41A429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B41FEA-28DC-4FCA-8C87-966FEC2D0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FC1E2B-F30C-4F53-9E9C-7A84F0A6F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5880BF-A009-4097-9F01-10493A0FC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BD60-9D56-4DBE-B9DE-3B399CF13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C3382F-C72A-4109-8004-E54006B96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261592-F517-4ED6-85D8-AD9569B83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D10B38-AAA2-409F-919F-401F0D49A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3C1A6F-DED2-452D-9D28-CED41993F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1C7F3C-60B5-4488-9B6E-B570D2E7A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C64183-1819-412C-94EB-93F93C2CD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05ABC1-AB4F-4DAC-831A-1500ECE47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F4F6AA-7078-4762-9235-D6C3B1049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D01337-F544-4C6D-B1AC-4DBF35778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3F35CB-C822-4920-9139-F6ED58E9B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7DF6-7A6E-42F2-BB1F-46C0CA726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FB3054-498C-4138-81B5-C51B891D1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E2E75E-E509-4CAF-AD38-7328025FD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A34602-7C98-425F-A7CA-5534B6B28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A10517-88DE-4EE3-A795-0B90EDEF5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809593-D972-43A5-9DBF-5B394028F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BAF62F-E570-44EF-8BB5-47DA82EB3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68FBCE-F4B0-4D45-A634-D6E8434FD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225248-61EB-4B5F-98A5-6E77D9535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7ED368-276B-4631-B367-6A48276FA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3744E6-3484-44E2-B6C2-AE4B3833D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6D00-E90C-4E2F-B193-74B90967F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2F8CC2-6556-442B-A2E3-E6E29EC2F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CFCBF1-BC84-4A73-94A4-4BB6033D1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442421-80D0-45BC-A14F-0B99F3D06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3ACC43-AD5A-4293-9E67-9D8220CDE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8638B0-0050-4E74-97A7-54697D45A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BCD9B1-D0B3-4F3F-AE2C-6F4CB5238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E4AE59-4BA8-4FE9-B0E6-439A04F47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1035E8-1F0B-4C46-A08B-CA0594B9A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AEF950-A2E6-40CC-B5D7-E21632A4C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17945B-4A92-4845-95AE-434171E3E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0CDA-BC49-4E8C-8528-D645E47B4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422DCD-D9D7-4DA3-A94A-B2881003A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37AD86-6812-4560-A3FD-89C49EE11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73C50A-B4C8-4E7C-B429-2D2B170EE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23DAD2-54B5-4206-873E-1D3793729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61AF2D-C02D-45A3-8954-A8D8E0513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D02D2D-F9B3-4115-828B-89DD0DEA6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D9F856-28CB-4337-80BE-0F3AE433C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5F4CC4-0364-4C60-AAFF-B14060FAD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FD2113-9D41-40A1-AC71-D88E9C503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8BE931-3790-4731-AA15-EA7EF6F3F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332A-B8EE-4836-9C9A-382DDB3A9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5C26BD-C01D-4AA7-A920-72B484DF8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751D7E-DA72-416B-9C8B-E66422571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B1EA38-79BF-445B-B55A-000BF5FED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C14F95-025A-46E1-A557-B3EF57145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1CC080-6840-4F4E-9CD1-12D6FD93D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EA7105-929B-4567-B76D-4BDA21886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4924C8-6A5B-4A2C-8E42-6978BBD90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7CD902-DC70-4EBF-9634-5D5CCC02A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6C1B5B-D9A4-4139-93EC-B4BC6F3EF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205EA5-D971-4AD5-ACD2-31BCADF63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887" h="1638887">
                <a:moveTo>
                  <a:pt x="1638887" y="819444"/>
                </a:moveTo>
                <a:cubicBezTo>
                  <a:pt x="1638887" y="1036862"/>
                  <a:pt x="1552484" y="1245367"/>
                  <a:pt x="1398699" y="1399057"/>
                </a:cubicBezTo>
                <a:cubicBezTo>
                  <a:pt x="1244914" y="1552747"/>
                  <a:pt x="1036356" y="1639022"/>
                  <a:pt x="818938" y="1638888"/>
                </a:cubicBezTo>
                <a:cubicBezTo>
                  <a:pt x="819107" y="1365740"/>
                  <a:pt x="819275" y="1092592"/>
                  <a:pt x="819444" y="819444"/>
                </a:cubicBezTo>
                <a:lnTo>
                  <a:pt x="1638887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702FA-1602-43B6-B9B3-E9A7CE21A27F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Rectangle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417" name="Rectangle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419" name="Process 8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0" name="Process 9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28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29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30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A64AE-5C83-445B-9CA4-93017A74CBA5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887" h="1638887">
                <a:moveTo>
                  <a:pt x="1638887" y="819444"/>
                </a:moveTo>
                <a:cubicBezTo>
                  <a:pt x="1638887" y="1036862"/>
                  <a:pt x="1552484" y="1245367"/>
                  <a:pt x="1398699" y="1399057"/>
                </a:cubicBezTo>
                <a:cubicBezTo>
                  <a:pt x="1244914" y="1552747"/>
                  <a:pt x="1036356" y="1639022"/>
                  <a:pt x="818938" y="1638888"/>
                </a:cubicBezTo>
                <a:cubicBezTo>
                  <a:pt x="819107" y="1365740"/>
                  <a:pt x="819275" y="1092592"/>
                  <a:pt x="819444" y="819444"/>
                </a:cubicBezTo>
                <a:lnTo>
                  <a:pt x="1638887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3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464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465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467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8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dt" idx="3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ftr" idx="3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 type="sldNum" idx="3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5C83B-ACDC-4D6F-A687-EE97F0C06F51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887" h="1638887">
                <a:moveTo>
                  <a:pt x="1638887" y="819444"/>
                </a:moveTo>
                <a:cubicBezTo>
                  <a:pt x="1638887" y="1036862"/>
                  <a:pt x="1552484" y="1245367"/>
                  <a:pt x="1398699" y="1399057"/>
                </a:cubicBezTo>
                <a:cubicBezTo>
                  <a:pt x="1244914" y="1552747"/>
                  <a:pt x="1036356" y="1639022"/>
                  <a:pt x="818938" y="1638888"/>
                </a:cubicBezTo>
                <a:cubicBezTo>
                  <a:pt x="819107" y="1365740"/>
                  <a:pt x="819275" y="1092592"/>
                  <a:pt x="819444" y="819444"/>
                </a:cubicBezTo>
                <a:lnTo>
                  <a:pt x="1638887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12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3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1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6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dt" idx="3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ftr" idx="3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 type="sldNum" idx="3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B4642-98AE-4FAF-9E56-FA8A0183D470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887" h="1638887">
                <a:moveTo>
                  <a:pt x="1638887" y="819444"/>
                </a:moveTo>
                <a:cubicBezTo>
                  <a:pt x="1638887" y="1036862"/>
                  <a:pt x="1552484" y="1245367"/>
                  <a:pt x="1398699" y="1399057"/>
                </a:cubicBezTo>
                <a:cubicBezTo>
                  <a:pt x="1244914" y="1552747"/>
                  <a:pt x="1036356" y="1639022"/>
                  <a:pt x="818938" y="1638888"/>
                </a:cubicBezTo>
                <a:cubicBezTo>
                  <a:pt x="819107" y="1365740"/>
                  <a:pt x="819275" y="1092592"/>
                  <a:pt x="819444" y="819444"/>
                </a:cubicBezTo>
                <a:lnTo>
                  <a:pt x="1638887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51EE2-856C-40B7-A152-107E6C383FAC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887" h="1638887">
                <a:moveTo>
                  <a:pt x="1638887" y="819444"/>
                </a:moveTo>
                <a:cubicBezTo>
                  <a:pt x="1638887" y="1036862"/>
                  <a:pt x="1552484" y="1245367"/>
                  <a:pt x="1398699" y="1399057"/>
                </a:cubicBezTo>
                <a:cubicBezTo>
                  <a:pt x="1244914" y="1552747"/>
                  <a:pt x="1036356" y="1639022"/>
                  <a:pt x="818938" y="1638888"/>
                </a:cubicBezTo>
                <a:cubicBezTo>
                  <a:pt x="819107" y="1365740"/>
                  <a:pt x="819275" y="1092592"/>
                  <a:pt x="819444" y="819444"/>
                </a:cubicBezTo>
                <a:lnTo>
                  <a:pt x="1638887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02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103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0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70A06-4F46-4CE4-A0A3-02BA20812DDE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50" name="Oval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51" name="Oval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53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AF5FE-B115-4975-8FAB-AECC7A6C8120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887" h="1638887">
                <a:moveTo>
                  <a:pt x="1638887" y="819444"/>
                </a:moveTo>
                <a:cubicBezTo>
                  <a:pt x="1638887" y="1036862"/>
                  <a:pt x="1552484" y="1245367"/>
                  <a:pt x="1398699" y="1399057"/>
                </a:cubicBezTo>
                <a:cubicBezTo>
                  <a:pt x="1244914" y="1552747"/>
                  <a:pt x="1036356" y="1639022"/>
                  <a:pt x="818938" y="1638888"/>
                </a:cubicBezTo>
                <a:cubicBezTo>
                  <a:pt x="819107" y="1365740"/>
                  <a:pt x="819275" y="1092592"/>
                  <a:pt x="819444" y="819444"/>
                </a:cubicBezTo>
                <a:lnTo>
                  <a:pt x="1638887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97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198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200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511DC-CA97-4335-8281-3EA7372699DA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2AA5C-9961-4B65-8AED-01C48F069CE0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887" h="1638887">
                <a:moveTo>
                  <a:pt x="1638887" y="819444"/>
                </a:moveTo>
                <a:cubicBezTo>
                  <a:pt x="1638887" y="1036862"/>
                  <a:pt x="1552484" y="1245367"/>
                  <a:pt x="1398699" y="1399057"/>
                </a:cubicBezTo>
                <a:cubicBezTo>
                  <a:pt x="1244914" y="1552747"/>
                  <a:pt x="1036356" y="1639022"/>
                  <a:pt x="818938" y="1638888"/>
                </a:cubicBezTo>
                <a:cubicBezTo>
                  <a:pt x="819107" y="1365740"/>
                  <a:pt x="819275" y="1092592"/>
                  <a:pt x="819444" y="819444"/>
                </a:cubicBezTo>
                <a:lnTo>
                  <a:pt x="1638887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5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86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287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289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0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3EB20-4D78-4CA5-892C-EF1EEC5F7C99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2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ftr" idx="2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sldNum" idx="2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465A7-3F89-4A42-9DE5-9E01FC20BE23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5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ftr" idx="26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sldNum" idx="27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A2010-B6EC-427A-8310-AD7A7112B272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laubach-on.ca/" TargetMode="External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300" spc="-1" strike="noStrike">
                <a:solidFill>
                  <a:srgbClr val="572314"/>
                </a:solidFill>
                <a:latin typeface="Gill Sans MT"/>
              </a:rPr>
              <a:t>Personal Learning Style and Goal Setting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320e04"/>
                </a:solidFill>
                <a:latin typeface="Gill Sans MT"/>
              </a:rPr>
              <a:t>Session 1: Introduction and Personal Learning Styl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67" name="Picture 3" descr="thinking-person-24255334.jpg"/>
          <p:cNvPicPr/>
          <p:nvPr/>
        </p:nvPicPr>
        <p:blipFill>
          <a:blip r:embed="rId1"/>
          <a:srcRect l="0" t="0" r="0" b="7447"/>
          <a:stretch/>
        </p:blipFill>
        <p:spPr>
          <a:xfrm>
            <a:off x="3092400" y="2432160"/>
            <a:ext cx="5399280" cy="4021200"/>
          </a:xfrm>
          <a:prstGeom prst="rect">
            <a:avLst/>
          </a:prstGeom>
          <a:ln w="0">
            <a:noFill/>
          </a:ln>
        </p:spPr>
      </p:pic>
      <p:sp>
        <p:nvSpPr>
          <p:cNvPr id="568" name="TextBox 4"/>
          <p:cNvSpPr/>
          <p:nvPr/>
        </p:nvSpPr>
        <p:spPr>
          <a:xfrm>
            <a:off x="4100400" y="3141720"/>
            <a:ext cx="143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3891a7"/>
                </a:solidFill>
                <a:latin typeface="Gill Sans MT"/>
              </a:rPr>
              <a:t>Visua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9" name="TextBox 5"/>
          <p:cNvSpPr/>
          <p:nvPr/>
        </p:nvSpPr>
        <p:spPr>
          <a:xfrm>
            <a:off x="6382440" y="3201840"/>
            <a:ext cx="17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3891a7"/>
                </a:solidFill>
                <a:latin typeface="Gill Sans MT"/>
              </a:rPr>
              <a:t>Kinesthetic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0" name="TextBox 6"/>
          <p:cNvSpPr/>
          <p:nvPr/>
        </p:nvSpPr>
        <p:spPr>
          <a:xfrm>
            <a:off x="3481560" y="5370480"/>
            <a:ext cx="145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3891a7"/>
                </a:solidFill>
                <a:latin typeface="Gill Sans MT"/>
              </a:rPr>
              <a:t>Auditor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434960" y="59184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572314"/>
                </a:solidFill>
                <a:latin typeface="Gill Sans MT"/>
              </a:rPr>
              <a:t>Why should I understand my personal learning style?</a:t>
            </a:r>
            <a:br>
              <a:rPr sz="4000"/>
            </a:b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594" name="Diagram 18" descr=""/>
          <p:cNvPicPr/>
          <p:nvPr/>
        </p:nvPicPr>
        <p:blipFill>
          <a:blip r:embed="rId1"/>
          <a:stretch/>
        </p:blipFill>
        <p:spPr>
          <a:xfrm>
            <a:off x="1378080" y="1889280"/>
            <a:ext cx="72356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" name="Picture 3" descr="2AdultDiscussionChairs-Hi.jpg"/>
          <p:cNvPicPr/>
          <p:nvPr/>
        </p:nvPicPr>
        <p:blipFill>
          <a:blip r:embed="rId1"/>
          <a:srcRect l="0" t="0" r="15328" b="6249"/>
          <a:stretch/>
        </p:blipFill>
        <p:spPr>
          <a:xfrm>
            <a:off x="3048120" y="2808360"/>
            <a:ext cx="6095880" cy="4049640"/>
          </a:xfrm>
          <a:prstGeom prst="rect">
            <a:avLst/>
          </a:prstGeom>
          <a:ln w="0">
            <a:noFill/>
          </a:ln>
        </p:spPr>
      </p:pic>
      <p:sp>
        <p:nvSpPr>
          <p:cNvPr id="596" name="TextBox 5"/>
          <p:cNvSpPr/>
          <p:nvPr/>
        </p:nvSpPr>
        <p:spPr>
          <a:xfrm>
            <a:off x="1413000" y="809640"/>
            <a:ext cx="72230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Gill Sans MT"/>
              </a:rPr>
              <a:t>Telling your instructor how you learn best will help them make appropriate lesson plans and instructions that suit you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300" spc="-1" strike="noStrike">
                <a:solidFill>
                  <a:srgbClr val="572314"/>
                </a:solidFill>
                <a:latin typeface="Gill Sans MT"/>
              </a:rPr>
              <a:t>The Three Learning Typ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98" name="TextBox 3"/>
          <p:cNvSpPr/>
          <p:nvPr/>
        </p:nvSpPr>
        <p:spPr>
          <a:xfrm>
            <a:off x="1434960" y="1417680"/>
            <a:ext cx="72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891a7"/>
                </a:solidFill>
                <a:latin typeface="Gill Sans MT"/>
              </a:rPr>
              <a:t>V</a:t>
            </a:r>
            <a:r>
              <a:rPr b="0" lang="en-CA" sz="3200" spc="-1" strike="noStrike">
                <a:solidFill>
                  <a:srgbClr val="000000"/>
                </a:solidFill>
                <a:latin typeface="Gill Sans MT"/>
              </a:rPr>
              <a:t>isual: Learning by seeing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9" name="TextBox 4"/>
          <p:cNvSpPr/>
          <p:nvPr/>
        </p:nvSpPr>
        <p:spPr>
          <a:xfrm>
            <a:off x="1434960" y="2187720"/>
            <a:ext cx="6597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891a7"/>
                </a:solidFill>
                <a:latin typeface="Gill Sans MT"/>
              </a:rPr>
              <a:t>A</a:t>
            </a:r>
            <a:r>
              <a:rPr b="0" lang="en-CA" sz="3200" spc="-1" strike="noStrike">
                <a:solidFill>
                  <a:srgbClr val="000000"/>
                </a:solidFill>
                <a:latin typeface="Gill Sans MT"/>
              </a:rPr>
              <a:t>uditory: Learning by hearing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0" name="TextBox 5"/>
          <p:cNvSpPr/>
          <p:nvPr/>
        </p:nvSpPr>
        <p:spPr>
          <a:xfrm>
            <a:off x="1434960" y="3035160"/>
            <a:ext cx="770904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891a7"/>
                </a:solidFill>
                <a:latin typeface="Gill Sans MT"/>
              </a:rPr>
              <a:t>K</a:t>
            </a:r>
            <a:r>
              <a:rPr b="0" lang="en-CA" sz="3200" spc="-1" strike="noStrike">
                <a:solidFill>
                  <a:srgbClr val="000000"/>
                </a:solidFill>
                <a:latin typeface="Gill Sans MT"/>
              </a:rPr>
              <a:t>inesthetic: Learning by doing or experiencing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01" name="Picture 6" descr="1197096732794508954johnny_automatic_hand_-_palm_facing_out.svg.hi.png"/>
          <p:cNvPicPr/>
          <p:nvPr/>
        </p:nvPicPr>
        <p:blipFill>
          <a:blip r:embed="rId1"/>
          <a:stretch/>
        </p:blipFill>
        <p:spPr>
          <a:xfrm>
            <a:off x="6943680" y="4516560"/>
            <a:ext cx="1724040" cy="2341440"/>
          </a:xfrm>
          <a:prstGeom prst="rect">
            <a:avLst/>
          </a:prstGeom>
          <a:ln w="0">
            <a:noFill/>
          </a:ln>
        </p:spPr>
      </p:pic>
      <p:pic>
        <p:nvPicPr>
          <p:cNvPr id="602" name="Picture 8" descr="dTre8GMXc.jpeg"/>
          <p:cNvPicPr/>
          <p:nvPr/>
        </p:nvPicPr>
        <p:blipFill>
          <a:blip r:embed="rId2"/>
          <a:stretch/>
        </p:blipFill>
        <p:spPr>
          <a:xfrm>
            <a:off x="1127160" y="5127480"/>
            <a:ext cx="3102120" cy="1460520"/>
          </a:xfrm>
          <a:prstGeom prst="rect">
            <a:avLst/>
          </a:prstGeom>
          <a:ln w="0">
            <a:noFill/>
          </a:ln>
        </p:spPr>
      </p:pic>
      <p:pic>
        <p:nvPicPr>
          <p:cNvPr id="603" name="Picture 9" descr="ear-clipart-black-and-white-ugq5tlmj.jpg"/>
          <p:cNvPicPr/>
          <p:nvPr/>
        </p:nvPicPr>
        <p:blipFill>
          <a:blip r:embed="rId3"/>
          <a:stretch/>
        </p:blipFill>
        <p:spPr>
          <a:xfrm>
            <a:off x="4419720" y="4516560"/>
            <a:ext cx="1819080" cy="21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300" spc="-1" strike="noStrike">
                <a:solidFill>
                  <a:srgbClr val="572314"/>
                </a:solidFill>
                <a:latin typeface="Gill Sans MT"/>
              </a:rPr>
              <a:t>Characteristics of VAK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605" name="Rectangle 9" descr=""/>
          <p:cNvPicPr/>
          <p:nvPr/>
        </p:nvPicPr>
        <p:blipFill>
          <a:blip r:embed="rId1"/>
          <a:stretch/>
        </p:blipFill>
        <p:spPr>
          <a:xfrm>
            <a:off x="1238400" y="1889280"/>
            <a:ext cx="2322360" cy="366480"/>
          </a:xfrm>
          <a:prstGeom prst="rect">
            <a:avLst/>
          </a:prstGeom>
          <a:ln w="0">
            <a:noFill/>
          </a:ln>
        </p:spPr>
      </p:pic>
      <p:pic>
        <p:nvPicPr>
          <p:cNvPr id="606" name="Rectangle 12" descr=""/>
          <p:cNvPicPr/>
          <p:nvPr/>
        </p:nvPicPr>
        <p:blipFill>
          <a:blip r:embed="rId2"/>
          <a:stretch/>
        </p:blipFill>
        <p:spPr>
          <a:xfrm>
            <a:off x="3736800" y="1889280"/>
            <a:ext cx="2303640" cy="366480"/>
          </a:xfrm>
          <a:prstGeom prst="rect">
            <a:avLst/>
          </a:prstGeom>
          <a:ln w="0">
            <a:noFill/>
          </a:ln>
        </p:spPr>
      </p:pic>
      <p:pic>
        <p:nvPicPr>
          <p:cNvPr id="607" name="Rectangle 13" descr=""/>
          <p:cNvPicPr/>
          <p:nvPr/>
        </p:nvPicPr>
        <p:blipFill>
          <a:blip r:embed="rId3"/>
          <a:stretch/>
        </p:blipFill>
        <p:spPr>
          <a:xfrm>
            <a:off x="6229440" y="1889280"/>
            <a:ext cx="2317680" cy="366480"/>
          </a:xfrm>
          <a:prstGeom prst="rect">
            <a:avLst/>
          </a:prstGeom>
          <a:ln w="0">
            <a:noFill/>
          </a:ln>
        </p:spPr>
      </p:pic>
      <p:sp>
        <p:nvSpPr>
          <p:cNvPr id="608" name="TextBox 14"/>
          <p:cNvSpPr/>
          <p:nvPr/>
        </p:nvSpPr>
        <p:spPr>
          <a:xfrm>
            <a:off x="1255680" y="2332080"/>
            <a:ext cx="22478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CA" sz="1800" spc="-1" strike="noStrike">
                <a:solidFill>
                  <a:srgbClr val="000000"/>
                </a:solidFill>
                <a:latin typeface="Gill Sans MT"/>
              </a:rPr>
              <a:t>Uses visual objects such as graphs, charts, picture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CA" sz="1800" spc="-1" strike="noStrike">
                <a:solidFill>
                  <a:srgbClr val="000000"/>
                </a:solidFill>
                <a:latin typeface="Gill Sans MT"/>
              </a:rPr>
              <a:t>Learns better in lessons by watching them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Gill Sans MT"/>
              </a:rPr>
              <a:t>Mentally pictures situations and problems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Gill Sans MT"/>
              </a:rPr>
              <a:t>Tends to remember things that are written down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Gill Sans MT"/>
              </a:rPr>
              <a:t> 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9" name="TextBox 15"/>
          <p:cNvSpPr/>
          <p:nvPr/>
        </p:nvSpPr>
        <p:spPr>
          <a:xfrm>
            <a:off x="1324080" y="1417680"/>
            <a:ext cx="215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Gill Sans MT"/>
              </a:rPr>
              <a:t>Visua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0" name="TextBox 16"/>
          <p:cNvSpPr/>
          <p:nvPr/>
        </p:nvSpPr>
        <p:spPr>
          <a:xfrm>
            <a:off x="3819600" y="1417680"/>
            <a:ext cx="213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Gill Sans MT"/>
              </a:rPr>
              <a:t>Auditory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1" name="TextBox 17"/>
          <p:cNvSpPr/>
          <p:nvPr/>
        </p:nvSpPr>
        <p:spPr>
          <a:xfrm>
            <a:off x="6311880" y="1417680"/>
            <a:ext cx="2149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Gill Sans MT"/>
              </a:rPr>
              <a:t>Kinesthetic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2" name="TextBox 18"/>
          <p:cNvSpPr/>
          <p:nvPr/>
        </p:nvSpPr>
        <p:spPr>
          <a:xfrm>
            <a:off x="3819600" y="2286000"/>
            <a:ext cx="2133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Gill Sans MT"/>
              </a:rPr>
              <a:t>Retains information through hearing and speaking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Gill Sans MT"/>
              </a:rPr>
              <a:t>Often prefers to be told how to do thing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Gill Sans MT"/>
              </a:rPr>
              <a:t>Summarizes key ideas out loud to help with memorization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Gill Sans MT"/>
              </a:rPr>
              <a:t>Often has musical talent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3" name="TextBox 19"/>
          <p:cNvSpPr/>
          <p:nvPr/>
        </p:nvSpPr>
        <p:spPr>
          <a:xfrm>
            <a:off x="6311880" y="2317680"/>
            <a:ext cx="21495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Gill Sans MT"/>
              </a:rPr>
              <a:t>Likes a “hands-on” approach to learn new material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CA" sz="1800" spc="-1" strike="noStrike">
                <a:solidFill>
                  <a:srgbClr val="000000"/>
                </a:solidFill>
                <a:latin typeface="Gill Sans MT"/>
              </a:rPr>
              <a:t>Would rather demonstrate how to do something rather than explain it verbally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Gill Sans MT"/>
              </a:rPr>
              <a:t>Usually prefers to work in a group than alon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Gill Sans MT"/>
              </a:rPr>
              <a:t>Is generally good in math and scienc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300" spc="-1" strike="noStrike">
                <a:solidFill>
                  <a:srgbClr val="572314"/>
                </a:solidFill>
                <a:latin typeface="Gill Sans MT"/>
              </a:rPr>
              <a:t>Activity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615" name="Picture 3" descr="stick-man-throw-clip-art.jpg"/>
          <p:cNvPicPr/>
          <p:nvPr/>
        </p:nvPicPr>
        <p:blipFill>
          <a:blip r:embed="rId1"/>
          <a:stretch/>
        </p:blipFill>
        <p:spPr>
          <a:xfrm>
            <a:off x="1285920" y="2454120"/>
            <a:ext cx="3838680" cy="4008600"/>
          </a:xfrm>
          <a:prstGeom prst="rect">
            <a:avLst/>
          </a:prstGeom>
          <a:ln w="0">
            <a:noFill/>
          </a:ln>
        </p:spPr>
      </p:pic>
      <p:pic>
        <p:nvPicPr>
          <p:cNvPr id="616" name="Cloud Callout 6" descr=""/>
          <p:cNvPicPr/>
          <p:nvPr/>
        </p:nvPicPr>
        <p:blipFill>
          <a:blip r:embed="rId2"/>
          <a:stretch/>
        </p:blipFill>
        <p:spPr>
          <a:xfrm>
            <a:off x="4170240" y="927000"/>
            <a:ext cx="4540320" cy="2554560"/>
          </a:xfrm>
          <a:prstGeom prst="rect">
            <a:avLst/>
          </a:prstGeom>
          <a:ln w="0">
            <a:noFill/>
          </a:ln>
        </p:spPr>
      </p:pic>
      <p:sp>
        <p:nvSpPr>
          <p:cNvPr id="617" name="TextBox 7"/>
          <p:cNvSpPr/>
          <p:nvPr/>
        </p:nvSpPr>
        <p:spPr>
          <a:xfrm>
            <a:off x="5923080" y="1417680"/>
            <a:ext cx="2381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Gill Sans MT"/>
              </a:rPr>
              <a:t>Do the “Find Your Learning Style” and “Learning Style Opinion” activities. 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1249200" y="4005000"/>
            <a:ext cx="749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900" spc="-1" strike="noStrike">
                <a:solidFill>
                  <a:srgbClr val="572314"/>
                </a:solidFill>
                <a:latin typeface="Gill Sans MT"/>
              </a:rPr>
              <a:t>To understand how the VAK learning styles can help you, we need to investigate strategies that you can use to help you achieve your goals.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619" name="Picture 5" descr="goals-2.jpg"/>
          <p:cNvPicPr/>
          <p:nvPr/>
        </p:nvPicPr>
        <p:blipFill>
          <a:blip r:embed="rId1"/>
          <a:stretch/>
        </p:blipFill>
        <p:spPr>
          <a:xfrm>
            <a:off x="1036800" y="0"/>
            <a:ext cx="5074920" cy="29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900" spc="-1" strike="noStrike">
                <a:solidFill>
                  <a:srgbClr val="572314"/>
                </a:solidFill>
                <a:latin typeface="Gill Sans MT"/>
              </a:rPr>
              <a:t>VAK Learning Strategies Discussion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621" name="Picture 4" descr="hierarchical-decision.jpg"/>
          <p:cNvPicPr/>
          <p:nvPr/>
        </p:nvPicPr>
        <p:blipFill>
          <a:blip r:embed="rId1"/>
          <a:stretch/>
        </p:blipFill>
        <p:spPr>
          <a:xfrm>
            <a:off x="4826160" y="3797280"/>
            <a:ext cx="3524040" cy="2521080"/>
          </a:xfrm>
          <a:prstGeom prst="rect">
            <a:avLst/>
          </a:prstGeom>
          <a:ln w="0">
            <a:noFill/>
          </a:ln>
        </p:spPr>
      </p:pic>
      <p:sp>
        <p:nvSpPr>
          <p:cNvPr id="622" name="TextBox 5"/>
          <p:cNvSpPr/>
          <p:nvPr/>
        </p:nvSpPr>
        <p:spPr>
          <a:xfrm>
            <a:off x="1434960" y="1417680"/>
            <a:ext cx="73598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Gill Sans MT"/>
              </a:rPr>
              <a:t>As a group, discuss some strategies that </a:t>
            </a:r>
            <a:r>
              <a:rPr b="1" lang="en-CA" sz="3200" spc="-1" strike="noStrike">
                <a:solidFill>
                  <a:srgbClr val="000000"/>
                </a:solidFill>
                <a:latin typeface="Gill Sans MT"/>
              </a:rPr>
              <a:t>visual</a:t>
            </a:r>
            <a:r>
              <a:rPr b="0" lang="en-CA" sz="3200" spc="-1" strike="noStrike">
                <a:solidFill>
                  <a:srgbClr val="000000"/>
                </a:solidFill>
                <a:latin typeface="Gill Sans MT"/>
              </a:rPr>
              <a:t>, </a:t>
            </a:r>
            <a:r>
              <a:rPr b="1" lang="en-CA" sz="3200" spc="-1" strike="noStrike">
                <a:solidFill>
                  <a:srgbClr val="000000"/>
                </a:solidFill>
                <a:latin typeface="Gill Sans MT"/>
              </a:rPr>
              <a:t>auditory</a:t>
            </a:r>
            <a:r>
              <a:rPr b="0" lang="en-CA" sz="3200" spc="-1" strike="noStrike">
                <a:solidFill>
                  <a:srgbClr val="000000"/>
                </a:solidFill>
                <a:latin typeface="Gill Sans MT"/>
              </a:rPr>
              <a:t> and </a:t>
            </a:r>
            <a:r>
              <a:rPr b="1" lang="en-CA" sz="3200" spc="-1" strike="noStrike">
                <a:solidFill>
                  <a:srgbClr val="000000"/>
                </a:solidFill>
                <a:latin typeface="Gill Sans MT"/>
              </a:rPr>
              <a:t>kinesthetic </a:t>
            </a:r>
            <a:r>
              <a:rPr b="0" lang="en-CA" sz="3200" spc="-1" strike="noStrike">
                <a:solidFill>
                  <a:srgbClr val="000000"/>
                </a:solidFill>
                <a:latin typeface="Gill Sans MT"/>
              </a:rPr>
              <a:t>learners could use to enhance their learning</a:t>
            </a:r>
            <a:r>
              <a:rPr b="0" lang="en-CA" sz="18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3" name="TextBox 7"/>
          <p:cNvSpPr/>
          <p:nvPr/>
        </p:nvSpPr>
        <p:spPr>
          <a:xfrm>
            <a:off x="1635120" y="3486240"/>
            <a:ext cx="26352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3891a7"/>
                </a:solidFill>
                <a:latin typeface="Gill Sans MT"/>
              </a:rPr>
              <a:t>Write down five key ideas per learning style!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300" spc="-1" strike="noStrike">
                <a:solidFill>
                  <a:srgbClr val="572314"/>
                </a:solidFill>
                <a:latin typeface="Gill Sans MT"/>
              </a:rPr>
              <a:t>Visual Learner Strategi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625" name="Picture 6" descr="Unknown.jpeg"/>
          <p:cNvPicPr/>
          <p:nvPr/>
        </p:nvPicPr>
        <p:blipFill>
          <a:blip r:embed="rId1"/>
          <a:stretch/>
        </p:blipFill>
        <p:spPr>
          <a:xfrm>
            <a:off x="1260360" y="1571760"/>
            <a:ext cx="2828880" cy="3009600"/>
          </a:xfrm>
          <a:prstGeom prst="rect">
            <a:avLst/>
          </a:prstGeom>
          <a:ln w="0">
            <a:noFill/>
          </a:ln>
        </p:spPr>
      </p:pic>
      <p:pic>
        <p:nvPicPr>
          <p:cNvPr id="626" name="Rectangle 10" descr=""/>
          <p:cNvPicPr/>
          <p:nvPr/>
        </p:nvPicPr>
        <p:blipFill>
          <a:blip r:embed="rId2"/>
          <a:stretch/>
        </p:blipFill>
        <p:spPr>
          <a:xfrm>
            <a:off x="4535640" y="1511280"/>
            <a:ext cx="4297320" cy="4992840"/>
          </a:xfrm>
          <a:prstGeom prst="rect">
            <a:avLst/>
          </a:prstGeom>
          <a:ln w="0">
            <a:noFill/>
          </a:ln>
        </p:spPr>
      </p:pic>
      <p:sp>
        <p:nvSpPr>
          <p:cNvPr id="627" name="TextBox 11"/>
          <p:cNvSpPr/>
          <p:nvPr/>
        </p:nvSpPr>
        <p:spPr>
          <a:xfrm>
            <a:off x="4778280" y="1746360"/>
            <a:ext cx="3635640" cy="46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ill Sans MT"/>
              </a:rPr>
              <a:t>Strategies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Gill Sans MT"/>
              </a:rPr>
              <a:t>Include pictures, charts, or maps in note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Gill Sans MT"/>
              </a:rPr>
              <a:t>Avoid visual distractions (windows, doorways, etc.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Gill Sans MT"/>
              </a:rPr>
              <a:t>Colour code your notes to organize and put emphasis on key point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Gill Sans MT"/>
              </a:rPr>
              <a:t>Use flash cards to study or memoriz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Gill Sans MT"/>
              </a:rPr>
              <a:t>Make mind and concept maps instead of outline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Gill Sans MT"/>
              </a:rPr>
              <a:t>Visualize steps to solve problems in your head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300" spc="-1" strike="noStrike">
                <a:solidFill>
                  <a:srgbClr val="572314"/>
                </a:solidFill>
                <a:latin typeface="Gill Sans MT"/>
              </a:rPr>
              <a:t>Auditory Learner Strategi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629" name="Picture 7" descr="Unknown-1.jpeg"/>
          <p:cNvPicPr/>
          <p:nvPr/>
        </p:nvPicPr>
        <p:blipFill>
          <a:blip r:embed="rId1"/>
          <a:stretch/>
        </p:blipFill>
        <p:spPr>
          <a:xfrm>
            <a:off x="5997600" y="1571760"/>
            <a:ext cx="2768400" cy="2933640"/>
          </a:xfrm>
          <a:prstGeom prst="rect">
            <a:avLst/>
          </a:prstGeom>
          <a:ln w="0">
            <a:noFill/>
          </a:ln>
        </p:spPr>
      </p:pic>
      <p:pic>
        <p:nvPicPr>
          <p:cNvPr id="630" name="Rectangle 8" descr=""/>
          <p:cNvPicPr/>
          <p:nvPr/>
        </p:nvPicPr>
        <p:blipFill>
          <a:blip r:embed="rId2"/>
          <a:stretch/>
        </p:blipFill>
        <p:spPr>
          <a:xfrm>
            <a:off x="1352520" y="1511280"/>
            <a:ext cx="4299120" cy="4992840"/>
          </a:xfrm>
          <a:prstGeom prst="rect">
            <a:avLst/>
          </a:prstGeom>
          <a:ln w="0">
            <a:noFill/>
          </a:ln>
        </p:spPr>
      </p:pic>
      <p:sp>
        <p:nvSpPr>
          <p:cNvPr id="631" name="TextBox 9"/>
          <p:cNvSpPr/>
          <p:nvPr/>
        </p:nvSpPr>
        <p:spPr>
          <a:xfrm>
            <a:off x="1603440" y="1644480"/>
            <a:ext cx="376236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ill Sans MT"/>
              </a:rPr>
              <a:t>Strategies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Gill Sans MT"/>
              </a:rPr>
              <a:t>Record lessons/instructions and then listen to them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Gill Sans MT"/>
              </a:rPr>
              <a:t>Discuss materials in group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Gill Sans MT"/>
              </a:rPr>
              <a:t>Listen to wordless background music while studying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Gill Sans MT"/>
              </a:rPr>
              <a:t>Use rhymes or jingles to help remember important point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Gill Sans MT"/>
              </a:rPr>
              <a:t>Repeat information to yourself at barely audible whisper as you take note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Gill Sans MT"/>
              </a:rPr>
              <a:t>"Teach" information out loud to another person or an inanimate object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300" spc="-1" strike="noStrike">
                <a:solidFill>
                  <a:srgbClr val="572314"/>
                </a:solidFill>
                <a:latin typeface="Gill Sans MT"/>
              </a:rPr>
              <a:t>Kinesthetic Learner Strategi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633" name="Picture 6" descr="images-4.jpeg"/>
          <p:cNvPicPr/>
          <p:nvPr/>
        </p:nvPicPr>
        <p:blipFill>
          <a:blip r:embed="rId1"/>
          <a:stretch/>
        </p:blipFill>
        <p:spPr>
          <a:xfrm>
            <a:off x="1289160" y="1571760"/>
            <a:ext cx="3060720" cy="2666880"/>
          </a:xfrm>
          <a:prstGeom prst="rect">
            <a:avLst/>
          </a:prstGeom>
          <a:ln w="0">
            <a:noFill/>
          </a:ln>
        </p:spPr>
      </p:pic>
      <p:pic>
        <p:nvPicPr>
          <p:cNvPr id="634" name="Rectangle 7" descr=""/>
          <p:cNvPicPr/>
          <p:nvPr/>
        </p:nvPicPr>
        <p:blipFill>
          <a:blip r:embed="rId2"/>
          <a:stretch/>
        </p:blipFill>
        <p:spPr>
          <a:xfrm>
            <a:off x="4535640" y="1511280"/>
            <a:ext cx="4297320" cy="4992840"/>
          </a:xfrm>
          <a:prstGeom prst="rect">
            <a:avLst/>
          </a:prstGeom>
          <a:ln w="0">
            <a:noFill/>
          </a:ln>
        </p:spPr>
      </p:pic>
      <p:sp>
        <p:nvSpPr>
          <p:cNvPr id="635" name="TextBox 8"/>
          <p:cNvSpPr/>
          <p:nvPr/>
        </p:nvSpPr>
        <p:spPr>
          <a:xfrm>
            <a:off x="4746600" y="1682640"/>
            <a:ext cx="376236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ill Sans MT"/>
              </a:rPr>
              <a:t>Strategies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Gill Sans MT"/>
              </a:rPr>
              <a:t>Learn new material while doing something active (e.g, read a textbook while on a treadmill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Gill Sans MT"/>
              </a:rPr>
              <a:t>Try to take classes with demonstrations and fieldwork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Gill Sans MT"/>
              </a:rPr>
              <a:t>Move a body part (eg. swing or tap your foot), or walk around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Gill Sans MT"/>
              </a:rPr>
              <a:t>Ask questions and participate in discussions whenever possibl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Gill Sans MT"/>
              </a:rPr>
              <a:t>Break reading tasks into small chunk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Gill Sans MT"/>
              </a:rPr>
              <a:t>Take study breaks often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In this session we will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Review the topics that will be covered in this module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Fill in the registration form (if applicable) 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Fill in the release of information form (if applicable) 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Fill in the learner agreement (if applicable) 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Review your learner plan 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Complete a learning styles inventory 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Answer any questions you have about the rest of the sessions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6" name="Picture 7" descr="stick_man_hurray_jumping_clip_art_24907.jpg"/>
          <p:cNvPicPr/>
          <p:nvPr/>
        </p:nvPicPr>
        <p:blipFill>
          <a:blip r:embed="rId1"/>
          <a:stretch/>
        </p:blipFill>
        <p:spPr>
          <a:xfrm>
            <a:off x="1273320" y="2689200"/>
            <a:ext cx="3647880" cy="3905280"/>
          </a:xfrm>
          <a:prstGeom prst="rect">
            <a:avLst/>
          </a:prstGeom>
          <a:ln w="0">
            <a:noFill/>
          </a:ln>
        </p:spPr>
      </p:pic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300" spc="-1" strike="noStrike">
                <a:solidFill>
                  <a:srgbClr val="572314"/>
                </a:solidFill>
                <a:latin typeface="Gill Sans MT"/>
              </a:rPr>
              <a:t>Activity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638" name="Cloud Callout 4" descr=""/>
          <p:cNvPicPr/>
          <p:nvPr/>
        </p:nvPicPr>
        <p:blipFill>
          <a:blip r:embed="rId2"/>
          <a:stretch/>
        </p:blipFill>
        <p:spPr>
          <a:xfrm>
            <a:off x="3279600" y="1047600"/>
            <a:ext cx="4784760" cy="2554560"/>
          </a:xfrm>
          <a:prstGeom prst="rect">
            <a:avLst/>
          </a:prstGeom>
          <a:ln w="0">
            <a:noFill/>
          </a:ln>
        </p:spPr>
      </p:pic>
      <p:sp>
        <p:nvSpPr>
          <p:cNvPr id="639" name="TextBox 5"/>
          <p:cNvSpPr/>
          <p:nvPr/>
        </p:nvSpPr>
        <p:spPr>
          <a:xfrm>
            <a:off x="5365800" y="1738440"/>
            <a:ext cx="214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Gill Sans MT"/>
              </a:rPr>
              <a:t>Complete the “VAK Matching” and “Email to Robert” activities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300" spc="-1" strike="noStrike">
                <a:solidFill>
                  <a:srgbClr val="572314"/>
                </a:solidFill>
                <a:latin typeface="Gill Sans MT"/>
              </a:rPr>
              <a:t>But remember…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641" name="Picture 3" descr="Learning-Styles-Research–The-Difference-Between-Evidence-and-Bias.jpg"/>
          <p:cNvPicPr/>
          <p:nvPr/>
        </p:nvPicPr>
        <p:blipFill>
          <a:blip r:embed="rId1"/>
          <a:stretch/>
        </p:blipFill>
        <p:spPr>
          <a:xfrm>
            <a:off x="1438200" y="2481120"/>
            <a:ext cx="3840120" cy="3846600"/>
          </a:xfrm>
          <a:prstGeom prst="rect">
            <a:avLst/>
          </a:prstGeom>
          <a:ln w="0">
            <a:noFill/>
          </a:ln>
        </p:spPr>
      </p:pic>
      <p:sp>
        <p:nvSpPr>
          <p:cNvPr id="642" name="TextBox 4"/>
          <p:cNvSpPr/>
          <p:nvPr/>
        </p:nvSpPr>
        <p:spPr>
          <a:xfrm>
            <a:off x="1434960" y="1401840"/>
            <a:ext cx="749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Gill Sans MT"/>
              </a:rPr>
              <a:t>The three styles are not meant to be the absolute strategy for your learning in all situations!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3" name="TextBox 5"/>
          <p:cNvSpPr/>
          <p:nvPr/>
        </p:nvSpPr>
        <p:spPr>
          <a:xfrm>
            <a:off x="5397480" y="2482920"/>
            <a:ext cx="374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3891a7"/>
                </a:solidFill>
                <a:latin typeface="Gill Sans MT"/>
              </a:rPr>
              <a:t>For self-improvement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4" name="TextBox 6"/>
          <p:cNvSpPr/>
          <p:nvPr/>
        </p:nvSpPr>
        <p:spPr>
          <a:xfrm>
            <a:off x="5397480" y="3073320"/>
            <a:ext cx="3537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Gill Sans MT"/>
              </a:rPr>
              <a:t>Choose the way in which you believe you will learn better and try different strategies according to that styl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5" name="TextBox 7"/>
          <p:cNvSpPr/>
          <p:nvPr/>
        </p:nvSpPr>
        <p:spPr>
          <a:xfrm>
            <a:off x="5397480" y="4325760"/>
            <a:ext cx="269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3891a7"/>
                </a:solidFill>
                <a:latin typeface="Gill Sans MT"/>
              </a:rPr>
              <a:t>Then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6" name="TextBox 8"/>
          <p:cNvSpPr/>
          <p:nvPr/>
        </p:nvSpPr>
        <p:spPr>
          <a:xfrm>
            <a:off x="5397480" y="4849920"/>
            <a:ext cx="3537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Gill Sans MT"/>
              </a:rPr>
              <a:t>Look to the other two types and try to implement other learning strategies in your repertoir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300" spc="-1" strike="noStrike">
                <a:solidFill>
                  <a:srgbClr val="572314"/>
                </a:solidFill>
                <a:latin typeface="Gill Sans MT"/>
              </a:rPr>
              <a:t>A Little Review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648" name="What's Your Learning Style Movie.mov" descr=""/>
          <p:cNvPicPr/>
          <p:nvPr/>
        </p:nvPicPr>
        <p:blipFill>
          <a:blip r:embed="rId1"/>
          <a:stretch/>
        </p:blipFill>
        <p:spPr>
          <a:xfrm>
            <a:off x="1434960" y="1738440"/>
            <a:ext cx="7499520" cy="42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300" spc="-1" strike="noStrike">
                <a:solidFill>
                  <a:srgbClr val="572314"/>
                </a:solidFill>
                <a:latin typeface="Gill Sans MT"/>
              </a:rPr>
              <a:t>Activity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650" name="Cloud Callout 4" descr=""/>
          <p:cNvPicPr/>
          <p:nvPr/>
        </p:nvPicPr>
        <p:blipFill>
          <a:blip r:embed="rId1"/>
          <a:stretch/>
        </p:blipFill>
        <p:spPr>
          <a:xfrm>
            <a:off x="4857840" y="1542960"/>
            <a:ext cx="3865320" cy="3291120"/>
          </a:xfrm>
          <a:prstGeom prst="rect">
            <a:avLst/>
          </a:prstGeom>
          <a:ln w="0">
            <a:noFill/>
          </a:ln>
        </p:spPr>
      </p:pic>
      <p:sp>
        <p:nvSpPr>
          <p:cNvPr id="651" name="TextBox 5"/>
          <p:cNvSpPr/>
          <p:nvPr/>
        </p:nvSpPr>
        <p:spPr>
          <a:xfrm>
            <a:off x="5965920" y="2166840"/>
            <a:ext cx="223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Gill Sans MT"/>
              </a:rPr>
              <a:t>Do the “Real Life Learning Styles” activity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52" name="Picture 2" descr="Illustration+of+a+dancing+cartoon+blue+man.png"/>
          <p:cNvPicPr/>
          <p:nvPr/>
        </p:nvPicPr>
        <p:blipFill>
          <a:blip r:embed="rId2"/>
          <a:stretch/>
        </p:blipFill>
        <p:spPr>
          <a:xfrm rot="583200">
            <a:off x="1434960" y="3443400"/>
            <a:ext cx="374364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redit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1074600" y="2052360"/>
            <a:ext cx="7925040" cy="40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marL="27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20e04"/>
                </a:solidFill>
                <a:latin typeface="Arial"/>
                <a:ea typeface="Arial"/>
              </a:rPr>
              <a:t>This Power Point was created by Laubach Literacy Ontario.  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20e04"/>
                </a:solidFill>
                <a:latin typeface="Arial"/>
                <a:ea typeface="Arial"/>
              </a:rPr>
              <a:t>The resources can be downloaded free of charge at </a:t>
            </a:r>
            <a:r>
              <a:rPr b="0" lang="en-US" sz="1600" spc="-1" strike="noStrike" u="sng">
                <a:solidFill>
                  <a:srgbClr val="8dc765"/>
                </a:solidFill>
                <a:uFillTx/>
                <a:latin typeface="Arial"/>
                <a:ea typeface="Arial"/>
                <a:hlinkClick r:id="rId1"/>
              </a:rPr>
              <a:t>www.laubach-on.ca</a:t>
            </a:r>
            <a:r>
              <a:rPr b="1" lang="en-US" sz="1600" spc="-1" strike="noStrike">
                <a:solidFill>
                  <a:srgbClr val="320e04"/>
                </a:solidFill>
                <a:latin typeface="Arial"/>
                <a:ea typeface="Arial"/>
              </a:rPr>
              <a:t>. 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20e04"/>
                </a:solidFill>
                <a:latin typeface="Arial"/>
                <a:ea typeface="Arial"/>
              </a:rPr>
              <a:t>This Employment Ontario project was funded by the Ontario Government. 2015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20e04"/>
                </a:solidFill>
                <a:latin typeface="Arial"/>
                <a:ea typeface="Arial"/>
              </a:rPr>
              <a:t>All website links were accurate at the time of original distribution-March 2015.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20e04"/>
                </a:solidFill>
                <a:latin typeface="Arial"/>
                <a:ea typeface="Arial"/>
              </a:rPr>
              <a:t>All of the images and clip art used in this Power Point are from Clipart.com and Microsoft Office.com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55" name="Picture 3" descr=""/>
          <p:cNvPicPr/>
          <p:nvPr/>
        </p:nvPicPr>
        <p:blipFill>
          <a:blip r:embed="rId2"/>
          <a:stretch/>
        </p:blipFill>
        <p:spPr>
          <a:xfrm>
            <a:off x="4059360" y="2755800"/>
            <a:ext cx="2260440" cy="8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In the Learning Styles and Goal Setting Module we will be covering the following topics: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1426680" y="2549160"/>
            <a:ext cx="7497720" cy="36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Personal learning styl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Multiple Intelligenc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ntroduction to Goal Setting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Breaking Down Goal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At the end of the module: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1434600" y="1447560"/>
            <a:ext cx="4837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We will give you a copy of your learner plan which is a summary of what we are covering in the session 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We will give you a certificate of completion 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We will ask you to fill out an evaluation form 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We will ask you if you would recommend this program or this session to other people that might benefit from it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7" name="TextBox 3"/>
          <p:cNvSpPr/>
          <p:nvPr/>
        </p:nvSpPr>
        <p:spPr>
          <a:xfrm>
            <a:off x="6664320" y="2587680"/>
            <a:ext cx="2371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After you leave, we will be contacting you at 3 months, 6 months, and 12 months to see how you are doing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Paperwork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579" name="Content Placeholder 3" descr="File folder icon"/>
          <p:cNvPicPr/>
          <p:nvPr/>
        </p:nvPicPr>
        <p:blipFill>
          <a:blip r:embed="rId1"/>
          <a:stretch/>
        </p:blipFill>
        <p:spPr>
          <a:xfrm>
            <a:off x="4092480" y="2471760"/>
            <a:ext cx="28195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Expectation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Understand your role here- if you aren't sure about something ask!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Be responsible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Accept the point of view of others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Be flexible when working with others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Come prepared to participate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Meet any deadlines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Be willing to help others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Contribute to the best of your ability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Help resolve disagreements if they happe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Milest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1434600" y="1447560"/>
            <a:ext cx="55580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During the module we will be doing "check-ins" called milestones. Milestones are activities to help you see if you are making progress. 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The milestones in this module we will be doing are all found on your learner plan.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After we have completed all the materials you may complete a culminating task.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84" name="Picture 3" descr="Clock and exam pages representing education testing"/>
          <p:cNvPicPr/>
          <p:nvPr/>
        </p:nvPicPr>
        <p:blipFill>
          <a:blip r:embed="rId1"/>
          <a:stretch/>
        </p:blipFill>
        <p:spPr>
          <a:xfrm>
            <a:off x="7140600" y="611280"/>
            <a:ext cx="175428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Your Learner Plan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1434600" y="1447560"/>
            <a:ext cx="4526280" cy="49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Every person who comes to our agency has a learner plan  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The plan outlines what you will be doing while you are here  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The main parts of the learner plan are: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ilestones you will complete 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earning activities you will complete 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ferrals that are made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87" name="Picture 3" descr="Screen Shot 2014-12-08 at 3.15.25 PM.png"/>
          <p:cNvPicPr/>
          <p:nvPr/>
        </p:nvPicPr>
        <p:blipFill>
          <a:blip r:embed="rId1"/>
          <a:stretch/>
        </p:blipFill>
        <p:spPr>
          <a:xfrm>
            <a:off x="6100920" y="2959200"/>
            <a:ext cx="2743200" cy="187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8" name="Picture 6" descr="11567.png.jpeg"/>
          <p:cNvPicPr/>
          <p:nvPr/>
        </p:nvPicPr>
        <p:blipFill>
          <a:blip r:embed="rId1"/>
          <a:srcRect l="0" t="0" r="16606" b="64252"/>
          <a:stretch/>
        </p:blipFill>
        <p:spPr>
          <a:xfrm>
            <a:off x="5330880" y="4406760"/>
            <a:ext cx="3813120" cy="2451240"/>
          </a:xfrm>
          <a:prstGeom prst="rect">
            <a:avLst/>
          </a:prstGeom>
          <a:ln w="0">
            <a:noFill/>
          </a:ln>
        </p:spPr>
      </p:pic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300" spc="-1" strike="noStrike">
                <a:solidFill>
                  <a:srgbClr val="572314"/>
                </a:solidFill>
                <a:latin typeface="Gill Sans MT"/>
              </a:rPr>
              <a:t>What is learning style?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1434960" y="1447560"/>
            <a:ext cx="7499520" cy="17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Gill Sans MT"/>
              </a:rPr>
              <a:t>To put it simply, your </a:t>
            </a:r>
            <a:r>
              <a:rPr b="1" lang="en-CA" sz="3200" spc="-1" strike="noStrike">
                <a:solidFill>
                  <a:srgbClr val="000000"/>
                </a:solidFill>
                <a:latin typeface="Gill Sans MT"/>
              </a:rPr>
              <a:t>learning style</a:t>
            </a:r>
            <a:r>
              <a:rPr b="0" lang="en-CA" sz="3200" spc="-1" strike="noStrike">
                <a:solidFill>
                  <a:srgbClr val="000000"/>
                </a:solidFill>
                <a:latin typeface="Gill Sans MT"/>
              </a:rPr>
              <a:t>, or learning preference, is the way you tend to learn best.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1" name="TextBox 3"/>
          <p:cNvSpPr/>
          <p:nvPr/>
        </p:nvSpPr>
        <p:spPr>
          <a:xfrm>
            <a:off x="1622520" y="3305160"/>
            <a:ext cx="648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Gill Sans MT"/>
              </a:rPr>
              <a:t>A learning style involves your preferred method of taking in, organizing, and understanding information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2" name="TextBox 4"/>
          <p:cNvSpPr/>
          <p:nvPr/>
        </p:nvSpPr>
        <p:spPr>
          <a:xfrm>
            <a:off x="1622520" y="4114800"/>
            <a:ext cx="6486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Gill Sans MT"/>
              </a:rPr>
              <a:t>Although most people use a combination of the three learning styles, they usually have a clear preference for on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03T16:12:20Z</dcterms:created>
  <dc:creator>Robyn Cook-Ritchie</dc:creator>
  <dc:description/>
  <dc:language>en-US</dc:language>
  <cp:lastModifiedBy>Cook-Ritchie, Robyn</cp:lastModifiedBy>
  <dcterms:modified xsi:type="dcterms:W3CDTF">2015-06-16T15:58:51Z</dcterms:modified>
  <cp:revision>37</cp:revision>
  <dc:subject/>
  <dc:title>Personal Learning Style and Goal Setting</dc:title>
</cp:coreProperties>
</file>