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D13-8A43-4D45-9282-252C675B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B503-68A9-49AE-9D46-1D165949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4FA3-4365-42D8-8563-678FC8896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0681-4227-4A86-9E1F-97292821D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71D2-DBF8-4F2F-92A5-7F54516A7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7DF-716B-40DC-8FBB-B1BD6BB5B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BCC-525B-41CB-A22D-50A37C6EF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52B4-0DEE-43CC-A257-EA9CA265F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E86-2A59-451A-A668-EDC711453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9FFE-E385-45E6-8264-23AEE4CC6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352C-7F25-451D-80C7-6EA143977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7F22-27DE-4C5C-9F9E-A8FB507FB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914-50E1-4419-8180-F1602B124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F2CA-2C9F-421E-A131-F2E64D4A4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B86E-BA83-4889-A299-0F6B40549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E0C-487B-474B-A53E-D2CC6D7E9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535B-1DBD-4760-8653-24D6EA043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B70B-666C-4555-A24C-F72625992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0DF-5E6E-44E8-9F3A-C1B445076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5C5-A603-4D00-973F-F94B844D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34A-050B-4403-ADC3-07E4ABE7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9B25E-0F78-4361-ADA0-F816060E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FE83-DF3D-4FA6-BAAA-D9AF9F4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B3313-AF6B-40DB-86EC-AC851D2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82682-0581-48A8-B078-9849D1F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8C73E-5764-45EB-BD52-7490444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C05C9-94B8-45C6-9D8E-3CFACB2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1A8C7-7CF2-449F-BFA3-BF5CBB0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48409-3586-471F-BAF6-20DF827A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DE4E2-7708-4528-A491-838F8DFA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57F89-C1FF-4425-8514-8D6EC7A5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8F8-9B37-45D0-A1CE-1A85D636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C3676-6921-48E9-A57A-80BCA524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71242-932E-4E68-BA5A-46BD5AE0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DAB83-40DF-4357-BAF9-A9920AE9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9A6E4-C66A-4DB8-983E-8B1DE30D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470C-A045-4C8D-AB34-48DAFA8B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C72E2-17D9-4A0D-B711-9BE9A02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6C960-EBD1-4041-A709-5168F914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3F849-73C5-474D-BDD9-BE92EC4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DC9B-09A9-4553-B221-29637E20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F8ED2-B48C-40B7-AE68-FC80548B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483-1221-473D-89AD-DC550479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AF6E5-FA96-4E83-8121-5C657AA4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4623E-2A67-40D9-A943-AFA88651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B83B-E2B3-4BA6-B28E-BCBAC151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AC0AF-E348-45AF-B056-B50E093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343FC-DAE2-44D8-9944-4EF5F82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A228F-88DC-42A7-B3D1-3F3888E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0A556-4366-4D5C-9CF8-E2C9D41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5F67A-3BA2-4E58-9B4A-DFD8D5A1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F4139-1949-4FD0-A81F-6E149C6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0CA95-9440-40D7-AB5D-11BA5EE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9358-E7C9-452C-BAFC-534F7EF8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D019-0CEC-4DF5-809B-63F696A5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F8332-E206-41CA-B62A-8D4F66C0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8C2F5-7679-469D-B53A-717F5C8D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C92F4-94BE-4AD4-ADFA-BE87617D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FAD4D-4319-4EC5-9E38-7F17B74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9A47B-8942-4826-800A-41D4DAC8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63435-5DBB-4026-881C-C6C4DD49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9D672-BF29-4468-A44B-6B92EB0A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E2069-5A84-4CBB-A113-A267B9E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26704-0659-4302-8D0E-CEF9F44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C32-BC67-4A90-B749-D40ED0D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45661-823D-457B-B2C1-98A3A781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0E42E-A72F-40A9-9B6F-4338E55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C965D-2F19-49A6-8CA8-1BB6747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5B896-8FC5-4035-A135-C6D19593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EE621-BA9F-4A9A-A182-221D1E05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0DF-056C-4E1F-AA1A-4EE8FC9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1350-918B-4FCB-BB87-C25BE53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2B22-CDCD-4700-91E5-997C3359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89D1-C9AA-4126-BB1D-7B39310D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FE63-24ED-4544-ADBA-4903AC3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F20-68E4-411C-8B86-84A5D599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3A2A-FEC2-4981-8172-9E5A82ED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B1D2-84AB-45EB-8E0F-8DC667E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A137-1493-4D64-B2D9-CE42678F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EFF-BC9C-4928-8C08-1EFDF6EC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CB0-9A42-4A42-980A-124DB4B4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61C3-BE59-479C-9F44-99CC040E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E755-C2A9-478D-A616-52CBCA8F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5A6E-8DB9-494E-97F9-34D4B64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CF9C-D008-40E2-9107-45CCC5E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FF82-3F5A-4AD0-BE32-ED2ADD8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C43-A1F6-47BE-AAAD-590FA0B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7B71-306C-406B-859C-93C6608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602B-BCD5-4BF5-B378-3160804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3D06-FB30-4BAC-B248-5FDCEB3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BB30-05B0-4ACA-B667-34BDCD7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E932-4FB1-472F-B783-482B41B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5E9F-2D91-4991-834C-B2CF51F6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08B9-AF21-4CDB-9A4E-DA8C6A9A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0320-4C86-48E7-907C-8A3E83E9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1F88-FA4D-406B-9BC7-A9726393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3F30-60C8-45B0-8E99-624EE5B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C86-E856-400B-9590-795E13BB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6510-21CA-4176-AC02-6643CECB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BCBE-75B3-42F8-A329-75C678C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98AA-3D1A-411E-AC79-DF6CB88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B0E0-412D-4893-9572-B878128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B1BA-5FCF-49BB-9076-498EDAA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6BBC-1E86-4573-8447-00EAB469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ACDB-28D4-4EED-90EB-29B6A877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0CD8-E023-46F8-8C7C-6A2E7582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6B4E-785B-4584-B268-917877E7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DDFB-6D9F-4842-B45B-8CE1F9A7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D04-365F-444C-9914-23281ECD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B05B3-5A36-4275-9173-8A7F01F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EFFE-1B5C-496C-BA7A-36159C9D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A53F-79F6-4AE5-A666-B0CCAE6F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BACE-5FD3-41A2-BAC4-63698E9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16B2-FB6A-4D7A-BF6F-B9984A1C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C2BBE-61E6-4664-A7EF-9AA9280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C618-62AB-4336-A597-23C2143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24FBE-6566-4A64-A0DA-62E19C30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CC2C-A12E-4F8E-B1AD-E0C4890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6FA6-6EB8-4434-A133-A4BD40AB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910-26CF-47C1-91EB-D0E8AB75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F9FA-59D7-4B00-819A-B3DF3196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1F70-E1D7-4F61-8510-7D561429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B38D-D66B-4E1A-A811-96CAAB22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F9B8-633C-4683-972A-608C9753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5641-2049-4BB4-AB64-F3CF2919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190E-0FF1-4841-8552-49BB0AFB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28CA0-807F-45F3-964F-06D22706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1D0E-A9B9-4D6C-972D-7B12A2E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CCB4-ECD2-4159-9231-67969F0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DAF63-E79A-4E83-A69A-4F153B3A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17C-A685-4D45-A11D-7DC99E4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893BD-B1E6-46A2-A911-F5A6AE49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AFE9-7703-4E82-8912-AA55B6E8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9FA8-2B5A-444F-B726-8C3C7B18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F7C65-DECA-47BF-B149-E520856D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6CDC-1B3C-4696-A4E5-8AC748F3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ADCA-A9F2-47E0-A0EF-664FE39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E389-0A07-44F0-83E3-17A601FA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0F2B-EEEC-4FEF-92C5-BD5742B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B6B0-4C13-4E29-B535-C57FEE3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07419-5B2A-415C-B22D-A2507A16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857-8E73-480B-A360-985AE69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73E55-D046-42BC-B6DA-09306707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D842-8242-405A-BAF4-AADE484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5AEB-FF3B-4B78-A725-25E068D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64548-8136-4FFD-90DC-4346F7FD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5EA1-69BD-4D58-B4FE-36CB7104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727BE-F0D5-4FEA-AB26-85AABE86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FAD0D-0CCA-45AB-AB32-AB6D6B8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4C3AD-CF88-4F6F-AE08-376CE1B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8ED7-3E15-49F3-851D-FFB8989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4E2EA-9066-4EC8-A6E4-1CD2FC8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46D-9345-40BA-8EDB-34B9F2A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2821-F3A9-411C-B4DF-085BDC21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E33B-0077-4F64-98B6-B611D90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86B4-8EB1-4B0F-AB4D-A2765C18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29E2-8BE1-4DC1-B24B-FBDE4F9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F083-2680-4982-87DC-D496A0C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B28E-61F5-4BE7-84C4-D16B9155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CA5E-A80E-4AB4-AA34-BBF91852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AA07B-249C-4DF9-BAE4-F7CB04DA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0E903-D127-440A-9CFB-31296A4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1E122-EB20-4FA0-9FBB-315BBD49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C360-1158-46C7-B0E3-8D3850B6F1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4026-A55E-4E3D-A764-62680E8A32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7F96-AE10-41F9-A2F8-1EA8AACF33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8C1D-82B5-4483-BDC7-1C616506C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A39-E50C-4FEC-B922-E7CB6B6C38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A6C-1994-4FFC-950C-06F7D5C9FD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CE10-DAC2-4311-A483-FF0FFB9C5B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9FF-794D-4BE9-B92C-ED15F1D3D3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FA0B-7054-410B-8080-D668F4A8F07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C40-086A-47C1-BCBC-C08CA53EA9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7A62-2411-42DB-A2AB-EEF1337CD1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E377-845C-42FA-AB61-8929F8251F8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aubach-on.ca/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gfl.org/bgfl/custom/resources_ftp/client_ftp/ks3/ict/multiple_int/questions/choose_lang.cf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Personal Learning Style and Goal Set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320e04"/>
                </a:solidFill>
                <a:latin typeface="Gill Sans MT"/>
              </a:rPr>
              <a:t>Part 2:  Multiple Intellig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Picture 3" descr="multiple_intelligences.jpg"/>
          <p:cNvPicPr/>
          <p:nvPr/>
        </p:nvPicPr>
        <p:blipFill>
          <a:blip r:embed="rId1"/>
          <a:srcRect l="17885" t="10789" r="20535" b="0"/>
          <a:stretch/>
        </p:blipFill>
        <p:spPr>
          <a:xfrm>
            <a:off x="4478400" y="2351160"/>
            <a:ext cx="4360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3" descr="sheet_music.jpg"/>
          <p:cNvPicPr/>
          <p:nvPr/>
        </p:nvPicPr>
        <p:blipFill>
          <a:blip r:embed="rId1"/>
          <a:stretch/>
        </p:blipFill>
        <p:spPr>
          <a:xfrm>
            <a:off x="1023840" y="3481560"/>
            <a:ext cx="8120160" cy="33764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572314"/>
                </a:solidFill>
                <a:latin typeface="Gill Sans MT"/>
              </a:rPr>
              <a:t>Musical/Rhythmic Intelligen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1434960" y="2203560"/>
            <a:ext cx="734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ability to think in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music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; to be able to hear patterns, recognize them, and perhaps manipulate them. People with strong musical intelligence have music in their head most of the tim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1434960" y="1125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Music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572314"/>
                </a:solidFill>
                <a:latin typeface="Gill Sans MT"/>
              </a:rPr>
              <a:t>Bodily/Kinesthetic Intelligen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06" name="Picture 3" descr="kinesthetic.jpg"/>
          <p:cNvPicPr/>
          <p:nvPr/>
        </p:nvPicPr>
        <p:blipFill>
          <a:blip r:embed="rId1"/>
          <a:stretch/>
        </p:blipFill>
        <p:spPr>
          <a:xfrm>
            <a:off x="1300320" y="3894120"/>
            <a:ext cx="4967280" cy="2963880"/>
          </a:xfrm>
          <a:prstGeom prst="rect">
            <a:avLst/>
          </a:prstGeom>
          <a:ln w="0">
            <a:noFill/>
          </a:ln>
        </p:spPr>
      </p:pic>
      <p:sp>
        <p:nvSpPr>
          <p:cNvPr id="607" name="TextBox 4"/>
          <p:cNvSpPr/>
          <p:nvPr/>
        </p:nvSpPr>
        <p:spPr>
          <a:xfrm>
            <a:off x="1434960" y="1832040"/>
            <a:ext cx="735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capacity to use your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whole body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or parts of your body to solve a problem, make something, or provide a service. Many kinesthetic learners are physically activ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TextBox 2"/>
          <p:cNvSpPr/>
          <p:nvPr/>
        </p:nvSpPr>
        <p:spPr>
          <a:xfrm>
            <a:off x="1434960" y="1125360"/>
            <a:ext cx="24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Body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572314"/>
                </a:solidFill>
                <a:latin typeface="Gill Sans MT"/>
              </a:rPr>
              <a:t>Visual/Spatial Intelli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10" name="Picture 4" descr="nTXdjnETB.png"/>
          <p:cNvPicPr/>
          <p:nvPr/>
        </p:nvPicPr>
        <p:blipFill>
          <a:blip r:embed="rId1"/>
          <a:stretch/>
        </p:blipFill>
        <p:spPr>
          <a:xfrm>
            <a:off x="1330200" y="4362480"/>
            <a:ext cx="7604280" cy="209088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1434960" y="1900080"/>
            <a:ext cx="717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capacity to think in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image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picture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.  As well,  to visualize things in detail and abstractly.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1289520" y="112536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Picture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572314"/>
                </a:solidFill>
                <a:latin typeface="Gill Sans MT"/>
              </a:rPr>
              <a:t>Naturalist Intelli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1434960" y="2055960"/>
            <a:ext cx="733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ability to appreciate, recognize and categorize plants, animals and other objects in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 nature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(rocks, lakes, etc.). 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" name="Picture 11" descr="49800-forest-scene-cartoon.jpeg"/>
          <p:cNvPicPr/>
          <p:nvPr/>
        </p:nvPicPr>
        <p:blipFill>
          <a:blip r:embed="rId1"/>
          <a:stretch/>
        </p:blipFill>
        <p:spPr>
          <a:xfrm>
            <a:off x="1009800" y="3625920"/>
            <a:ext cx="7924680" cy="16891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2"/>
          <p:cNvSpPr/>
          <p:nvPr/>
        </p:nvSpPr>
        <p:spPr>
          <a:xfrm>
            <a:off x="1434960" y="1125360"/>
            <a:ext cx="36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Nature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572314"/>
                </a:solidFill>
                <a:latin typeface="Gill Sans MT"/>
              </a:rPr>
              <a:t>Intrapersonal Intelli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TextBox 3"/>
          <p:cNvSpPr/>
          <p:nvPr/>
        </p:nvSpPr>
        <p:spPr>
          <a:xfrm>
            <a:off x="1434960" y="1876320"/>
            <a:ext cx="732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Being able to understand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yourself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. Intrapersonal thinkers are very good at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self-reflection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. They know who they are, what they can do, when they need help, how they react to situations and which things to avoi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9" name="Picture 4" descr="intrapersonal_intelligence1.png"/>
          <p:cNvPicPr/>
          <p:nvPr/>
        </p:nvPicPr>
        <p:blipFill>
          <a:blip r:embed="rId1"/>
          <a:srcRect l="14525" t="18369" r="0" b="0"/>
          <a:stretch/>
        </p:blipFill>
        <p:spPr>
          <a:xfrm>
            <a:off x="5173560" y="4606920"/>
            <a:ext cx="2513160" cy="21114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5"/>
          <p:cNvSpPr/>
          <p:nvPr/>
        </p:nvSpPr>
        <p:spPr>
          <a:xfrm>
            <a:off x="1434960" y="118728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Self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Interpersonal Intelligenc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2" name="Picture 3" descr="istock_000005316875small.jpg"/>
          <p:cNvPicPr/>
          <p:nvPr/>
        </p:nvPicPr>
        <p:blipFill>
          <a:blip r:embed="rId1"/>
          <a:stretch/>
        </p:blipFill>
        <p:spPr>
          <a:xfrm>
            <a:off x="4095720" y="3803760"/>
            <a:ext cx="4756320" cy="31636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4"/>
          <p:cNvSpPr/>
          <p:nvPr/>
        </p:nvSpPr>
        <p:spPr>
          <a:xfrm>
            <a:off x="1434960" y="1125360"/>
            <a:ext cx="37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People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1434960" y="1946160"/>
            <a:ext cx="74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ability to understand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other people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and interact with them. It's an ability we all need, but is especially important for teachers, clinicians, salespersons, or politicia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572314"/>
                </a:solidFill>
                <a:latin typeface="Gill Sans MT"/>
              </a:rPr>
              <a:t>Existential Intelli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6" name="Picture 3" descr="deepthinking.bmp"/>
          <p:cNvPicPr/>
          <p:nvPr/>
        </p:nvPicPr>
        <p:blipFill>
          <a:blip r:embed="rId1"/>
          <a:stretch/>
        </p:blipFill>
        <p:spPr>
          <a:xfrm>
            <a:off x="4524480" y="3398760"/>
            <a:ext cx="4619520" cy="34592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4"/>
          <p:cNvSpPr/>
          <p:nvPr/>
        </p:nvSpPr>
        <p:spPr>
          <a:xfrm>
            <a:off x="1434960" y="2036880"/>
            <a:ext cx="749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ability to pose and ponder difficult questions about life, death, and other aspects of the worl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TextBox 5"/>
          <p:cNvSpPr/>
          <p:nvPr/>
        </p:nvSpPr>
        <p:spPr>
          <a:xfrm>
            <a:off x="1208520" y="116352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Philosophy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ctiv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30" name="Cloud Callout 4" descr=""/>
          <p:cNvPicPr/>
          <p:nvPr/>
        </p:nvPicPr>
        <p:blipFill>
          <a:blip r:embed="rId1"/>
          <a:stretch/>
        </p:blipFill>
        <p:spPr>
          <a:xfrm>
            <a:off x="3114720" y="1036800"/>
            <a:ext cx="5578560" cy="2481120"/>
          </a:xfrm>
          <a:prstGeom prst="rect">
            <a:avLst/>
          </a:prstGeom>
          <a:ln w="0">
            <a:noFill/>
          </a:ln>
        </p:spPr>
      </p:pic>
      <p:sp>
        <p:nvSpPr>
          <p:cNvPr id="631" name="TextBox 5"/>
          <p:cNvSpPr/>
          <p:nvPr/>
        </p:nvSpPr>
        <p:spPr>
          <a:xfrm>
            <a:off x="5327640" y="1515960"/>
            <a:ext cx="301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Complete the “Multiple Intelligences Mind-Map” and the “Multiple Intelligences Role Play” activiti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2" name="Picture 2" descr="11949865311118432359sm_022.svg.hi.png"/>
          <p:cNvPicPr/>
          <p:nvPr/>
        </p:nvPicPr>
        <p:blipFill>
          <a:blip r:embed="rId2"/>
          <a:stretch/>
        </p:blipFill>
        <p:spPr>
          <a:xfrm>
            <a:off x="1434960" y="2878200"/>
            <a:ext cx="24098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edi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106640" y="1417320"/>
            <a:ext cx="782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 Point was created by Laubach Literacy Ontario.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sources can be downloaded free of charge at 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1"/>
              </a:rPr>
              <a:t>www.laubach-on.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Employment Ontario project was funded by the Ontario Government. 2015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website links were accurate at the time of original distribution-March 2015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of the images and clip art used in this Power Point are from Clipart.com and Microsoft Office.co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3765600" y="2733840"/>
            <a:ext cx="22604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Multiple Intelligen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1434960" y="1450800"/>
            <a:ext cx="74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oday we will focus on a theory called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Multiple Intelligence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1434960" y="2963880"/>
            <a:ext cx="46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3891a7"/>
                </a:solidFill>
                <a:uFillTx/>
                <a:latin typeface="Gill Sans MT"/>
              </a:rPr>
              <a:t>Background Infor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The Multiple Intelligences Theory was created by the American developmental psychologist, Howard Gardner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1434960" y="4387680"/>
            <a:ext cx="49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3891a7"/>
                </a:solidFill>
                <a:uFillTx/>
                <a:latin typeface="Gill Sans MT"/>
              </a:rPr>
              <a:t>The Theo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Gardner’s theory proposes that humans possess nine different intelligences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2" name="Picture 8" descr="howard-gardner.jpg"/>
          <p:cNvPicPr/>
          <p:nvPr/>
        </p:nvPicPr>
        <p:blipFill>
          <a:blip r:embed="rId1"/>
          <a:stretch/>
        </p:blipFill>
        <p:spPr>
          <a:xfrm>
            <a:off x="6416640" y="2897280"/>
            <a:ext cx="2727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ctiv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434960" y="4632120"/>
            <a:ext cx="749952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bgfl.org/bgfl/custom/resources_ftp/client_ftp/ks3/ict/multiple_int/questions/choose_lang.cfm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5" name="Picture 3" descr="11949865311118432359sm_022.svg.hi.png"/>
          <p:cNvPicPr/>
          <p:nvPr/>
        </p:nvPicPr>
        <p:blipFill>
          <a:blip r:embed="rId2"/>
          <a:stretch/>
        </p:blipFill>
        <p:spPr>
          <a:xfrm>
            <a:off x="1603440" y="1500120"/>
            <a:ext cx="2409840" cy="3727440"/>
          </a:xfrm>
          <a:prstGeom prst="rect">
            <a:avLst/>
          </a:prstGeom>
          <a:ln w="0">
            <a:noFill/>
          </a:ln>
        </p:spPr>
      </p:pic>
      <p:pic>
        <p:nvPicPr>
          <p:cNvPr id="576" name="Cloud Callout 4" descr=""/>
          <p:cNvPicPr/>
          <p:nvPr/>
        </p:nvPicPr>
        <p:blipFill>
          <a:blip r:embed="rId3"/>
          <a:stretch/>
        </p:blipFill>
        <p:spPr>
          <a:xfrm>
            <a:off x="3541680" y="573120"/>
            <a:ext cx="5376960" cy="2084400"/>
          </a:xfrm>
          <a:prstGeom prst="rect">
            <a:avLst/>
          </a:prstGeom>
          <a:ln w="0">
            <a:noFill/>
          </a:ln>
        </p:spPr>
      </p:pic>
      <p:sp>
        <p:nvSpPr>
          <p:cNvPr id="577" name="TextBox 5"/>
          <p:cNvSpPr/>
          <p:nvPr/>
        </p:nvSpPr>
        <p:spPr>
          <a:xfrm>
            <a:off x="5651640" y="1120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te the multiple intelligences online indica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What is Intelligence?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1303200" y="1417680"/>
            <a:ext cx="704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re are many different ideas on what makes up intellig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303200" y="2787480"/>
            <a:ext cx="73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891a7"/>
                </a:solidFill>
                <a:latin typeface="Gill Sans MT"/>
              </a:rPr>
              <a:t>Gardner believes that intelligence is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1434960" y="3398760"/>
            <a:ext cx="4651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The ability to create a product or provide a service that is valued in a cultu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A set of skills that allow us to solve problems in lif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A potential for finding, gathering and creating solutions to challeng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2" name="Picture 6" descr="intelligence.png"/>
          <p:cNvPicPr/>
          <p:nvPr/>
        </p:nvPicPr>
        <p:blipFill>
          <a:blip r:embed="rId1"/>
          <a:srcRect l="0" t="0" r="0" b="5062"/>
          <a:stretch/>
        </p:blipFill>
        <p:spPr>
          <a:xfrm>
            <a:off x="6357960" y="3838680"/>
            <a:ext cx="25765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Activ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4" name="Picture 5" descr="stick_man_hurray_jumping_clip_art_24907.jpg"/>
          <p:cNvPicPr/>
          <p:nvPr/>
        </p:nvPicPr>
        <p:blipFill>
          <a:blip r:embed="rId1"/>
          <a:stretch/>
        </p:blipFill>
        <p:spPr>
          <a:xfrm>
            <a:off x="1278000" y="2455920"/>
            <a:ext cx="3801960" cy="4070160"/>
          </a:xfrm>
          <a:prstGeom prst="rect">
            <a:avLst/>
          </a:prstGeom>
          <a:ln w="0">
            <a:noFill/>
          </a:ln>
        </p:spPr>
      </p:pic>
      <p:pic>
        <p:nvPicPr>
          <p:cNvPr id="585" name="Cloud Callout 6" descr=""/>
          <p:cNvPicPr/>
          <p:nvPr/>
        </p:nvPicPr>
        <p:blipFill>
          <a:blip r:embed="rId2"/>
          <a:stretch/>
        </p:blipFill>
        <p:spPr>
          <a:xfrm>
            <a:off x="3114720" y="884160"/>
            <a:ext cx="5364000" cy="2084400"/>
          </a:xfrm>
          <a:prstGeom prst="rect">
            <a:avLst/>
          </a:prstGeom>
          <a:ln w="0">
            <a:noFill/>
          </a:ln>
        </p:spPr>
      </p:pic>
      <p:sp>
        <p:nvSpPr>
          <p:cNvPr id="586" name="TextBox 7"/>
          <p:cNvSpPr/>
          <p:nvPr/>
        </p:nvSpPr>
        <p:spPr>
          <a:xfrm>
            <a:off x="5673600" y="141768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Gill Sans MT"/>
              </a:rPr>
              <a:t>Do the “What is Intelligence” task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572314"/>
                </a:solidFill>
                <a:latin typeface="Gill Sans MT"/>
              </a:rPr>
              <a:t>Gardner’s Eight Multiple Intelligences</a:t>
            </a:r>
            <a:endParaRPr b="0" lang="en-US" sz="3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8" name="Picture 6" descr="learning-multiple-intelligences-infographic.jpg"/>
          <p:cNvPicPr/>
          <p:nvPr/>
        </p:nvPicPr>
        <p:blipFill>
          <a:blip r:embed="rId1"/>
          <a:stretch/>
        </p:blipFill>
        <p:spPr>
          <a:xfrm>
            <a:off x="2205000" y="1417680"/>
            <a:ext cx="53211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Look out!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1152360" y="5737320"/>
            <a:ext cx="48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891a7"/>
                </a:solidFill>
                <a:latin typeface="Gill Sans MT"/>
              </a:rPr>
              <a:t>Existential Intellig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1" name="Picture 7" descr="thinker.jpg"/>
          <p:cNvPicPr/>
          <p:nvPr/>
        </p:nvPicPr>
        <p:blipFill>
          <a:blip r:embed="rId1"/>
          <a:stretch/>
        </p:blipFill>
        <p:spPr>
          <a:xfrm>
            <a:off x="5967360" y="2598840"/>
            <a:ext cx="3176640" cy="42591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5"/>
          <p:cNvSpPr/>
          <p:nvPr/>
        </p:nvSpPr>
        <p:spPr>
          <a:xfrm>
            <a:off x="1287360" y="1417680"/>
            <a:ext cx="491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When Gardner first published his theory there were only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eight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multiple intelligences. This was seen in the pie chart. However, later on Gardner suggested that a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ninth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intelligence should be added to the Multiple Intelligences Theory. This ninth intelligence is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572314"/>
                </a:solidFill>
                <a:latin typeface="Gill Sans MT"/>
              </a:rPr>
              <a:t>Linguistic Intelli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4" name="Picture 3" descr="scrabble-letters.jpg"/>
          <p:cNvPicPr/>
          <p:nvPr/>
        </p:nvPicPr>
        <p:blipFill>
          <a:blip r:embed="rId1"/>
          <a:stretch/>
        </p:blipFill>
        <p:spPr>
          <a:xfrm>
            <a:off x="4156200" y="3478320"/>
            <a:ext cx="4987800" cy="33796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1434960" y="1908000"/>
            <a:ext cx="691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ability to use </a:t>
            </a: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language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to express what's on your mind and to understand other peop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TextBox 2"/>
          <p:cNvSpPr/>
          <p:nvPr/>
        </p:nvSpPr>
        <p:spPr>
          <a:xfrm>
            <a:off x="1336680" y="112536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Word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572314"/>
                </a:solidFill>
                <a:latin typeface="Gill Sans MT"/>
              </a:rPr>
              <a:t>Logical/Mathematical Intelligenc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8" name="Picture 3" descr="N_beakers.jpg"/>
          <p:cNvPicPr/>
          <p:nvPr/>
        </p:nvPicPr>
        <p:blipFill>
          <a:blip r:embed="rId1"/>
          <a:stretch/>
        </p:blipFill>
        <p:spPr>
          <a:xfrm>
            <a:off x="5046840" y="3500280"/>
            <a:ext cx="3313080" cy="3127680"/>
          </a:xfrm>
          <a:prstGeom prst="rect">
            <a:avLst/>
          </a:prstGeom>
          <a:ln w="0">
            <a:noFill/>
          </a:ln>
        </p:spPr>
      </p:pic>
      <p:sp>
        <p:nvSpPr>
          <p:cNvPr id="599" name="TextBox 4"/>
          <p:cNvSpPr/>
          <p:nvPr/>
        </p:nvSpPr>
        <p:spPr>
          <a:xfrm>
            <a:off x="1434960" y="1846440"/>
            <a:ext cx="770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he ability to understand and follow logical systems, like a scientist, or to manipulate numbers, quantities, and operations, like a mathematicia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1307520" y="112536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891a7"/>
                </a:solidFill>
                <a:latin typeface="Gill Sans MT"/>
              </a:rPr>
              <a:t>Logic Sm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4T17:59:06Z</dcterms:created>
  <dc:creator>Robyn Cook-Ritchie</dc:creator>
  <dc:description/>
  <dc:language>en-US</dc:language>
  <cp:lastModifiedBy>Cook-Ritchie, Robyn</cp:lastModifiedBy>
  <dcterms:modified xsi:type="dcterms:W3CDTF">2015-06-16T15:59:19Z</dcterms:modified>
  <cp:revision>31</cp:revision>
  <dc:subject/>
  <dc:title>Personal Learning Style and Goal Setting</dc:title>
</cp:coreProperties>
</file>