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18E6-2EA4-49BC-BEEF-44CDA386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0122-8423-4828-836E-0A17E8EB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8DD2-6549-42E0-9ED8-86A0443C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F22E-4B97-462D-8AD4-4887294D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1A1E-F579-43D7-8898-B99AB72A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71DD-F476-4254-B400-A6A695E3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970F-21D1-498C-8C41-685545C1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1CF1-3B7F-4633-9486-285C9F4F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9E85-9F68-4A19-8280-77BD37F2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45C1-6D1E-4B7A-BB5B-2374CCC3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8215-2376-4D60-937D-B407AB56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9EB3-1183-4399-BF4C-A22110C4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92C90-6073-45C0-AD25-D35E8ED1C1A4}" type="slidenum">
              <a:rPr b="0" lang="en-CA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familyecho.com/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675e47"/>
                </a:solidFill>
                <a:latin typeface="Cambria"/>
              </a:rPr>
              <a:t>Understanding Basic Graphs and Charts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e8d8c"/>
                </a:solidFill>
                <a:latin typeface="Calibri"/>
              </a:rPr>
              <a:t>Part 2 of 2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ctivity 3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162240" y="220680"/>
            <a:ext cx="4915080" cy="119124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Answer the questions in your workbook by reading the following graph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968400" y="1571760"/>
            <a:ext cx="6527880" cy="512424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What do they show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2f2b20"/>
                </a:solidFill>
                <a:latin typeface="Calibri"/>
              </a:rPr>
              <a:t>They show a </a:t>
            </a:r>
            <a:r>
              <a:rPr b="0" i="1" lang="en-CA" sz="1900" spc="-1" strike="noStrike">
                <a:solidFill>
                  <a:srgbClr val="2f2b20"/>
                </a:solidFill>
                <a:latin typeface="Calibri"/>
              </a:rPr>
              <a:t>hierarchy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2f2b20"/>
                </a:solidFill>
                <a:latin typeface="Calibri"/>
              </a:rPr>
              <a:t>Where different people or positions fit within the structure of a company or an organization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2f2b20"/>
                </a:solidFill>
                <a:latin typeface="Calibri"/>
              </a:rPr>
              <a:t>The larger and more complex the chart is, the larger the workplace or portion of the workplace that is represented by the chart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How are they used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2f2b20"/>
                </a:solidFill>
                <a:latin typeface="Calibri"/>
              </a:rPr>
              <a:t>They are often found  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25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in company policy manuals.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25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posted within a common area of the workplace.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25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in training videos or other training materials.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2f2b20"/>
                </a:solidFill>
                <a:latin typeface="Calibri"/>
              </a:rPr>
              <a:t>Employees will often have to review an organizational chart when they begin working in a new position, to help better understand where they fit in the greater whole of the company or organization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Organizational Chart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Organizational Charts Cont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417680"/>
            <a:ext cx="396252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What do they look like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Boxes with text (including job titles and/or employee names)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Lines show connections between different staff. 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The boxes found towards the top of the chart typically represent the most senior positions, while boxes at the bottom typically represent the least senior positions.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419360" y="1417320"/>
            <a:ext cx="386388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How do you read them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For more general information: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2" marL="1233360" indent="-457200">
              <a:lnSpc>
                <a:spcPct val="80000"/>
              </a:lnSpc>
              <a:spcBef>
                <a:spcPts val="349"/>
              </a:spcBef>
              <a:buClr>
                <a:srgbClr val="d2cb6c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2f2b20"/>
                </a:solidFill>
                <a:latin typeface="Calibri"/>
              </a:rPr>
              <a:t>Look for the company's title and determine the type of company the chart represents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2" marL="1233360" indent="-457200">
              <a:lnSpc>
                <a:spcPct val="80000"/>
              </a:lnSpc>
              <a:spcBef>
                <a:spcPts val="349"/>
              </a:spcBef>
              <a:buClr>
                <a:srgbClr val="d2cb6c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2f2b20"/>
                </a:solidFill>
                <a:latin typeface="Calibri"/>
              </a:rPr>
              <a:t>Scan the overall shape of the graph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2" marL="1233360" indent="-457200">
              <a:lnSpc>
                <a:spcPct val="80000"/>
              </a:lnSpc>
              <a:spcBef>
                <a:spcPts val="349"/>
              </a:spcBef>
              <a:buClr>
                <a:srgbClr val="d2cb6c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2f2b20"/>
                </a:solidFill>
                <a:latin typeface="Calibri"/>
              </a:rPr>
              <a:t>Identify different departments within the company. 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For information about a single position: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2" marL="1233360" indent="-457200">
              <a:lnSpc>
                <a:spcPct val="80000"/>
              </a:lnSpc>
              <a:spcBef>
                <a:spcPts val="349"/>
              </a:spcBef>
              <a:buClr>
                <a:srgbClr val="d2cb6c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2f2b20"/>
                </a:solidFill>
                <a:latin typeface="Calibri"/>
              </a:rPr>
              <a:t>Locate the position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2" marL="1233360" indent="-457200">
              <a:lnSpc>
                <a:spcPct val="80000"/>
              </a:lnSpc>
              <a:spcBef>
                <a:spcPts val="349"/>
              </a:spcBef>
              <a:buClr>
                <a:srgbClr val="d2cb6c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2f2b20"/>
                </a:solidFill>
                <a:latin typeface="Calibri"/>
              </a:rPr>
              <a:t>Follow the line above the box to find the supervisor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2" marL="1233360" indent="-457200">
              <a:lnSpc>
                <a:spcPct val="80000"/>
              </a:lnSpc>
              <a:spcBef>
                <a:spcPts val="349"/>
              </a:spcBef>
              <a:buClr>
                <a:srgbClr val="d2cb6c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2f2b20"/>
                </a:solidFill>
                <a:latin typeface="Calibri"/>
              </a:rPr>
              <a:t>Follow the line(s) beside the box to find coworkers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2" marL="1233360" indent="-457200">
              <a:lnSpc>
                <a:spcPct val="80000"/>
              </a:lnSpc>
              <a:spcBef>
                <a:spcPts val="349"/>
              </a:spcBef>
              <a:buClr>
                <a:srgbClr val="d2cb6c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2f2b20"/>
                </a:solidFill>
                <a:latin typeface="Calibri"/>
              </a:rPr>
              <a:t>Follow the line(s) below the box to find subordinates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7" name="Diagram 4" descr=""/>
          <p:cNvPicPr/>
          <p:nvPr/>
        </p:nvPicPr>
        <p:blipFill>
          <a:blip r:embed="rId1"/>
          <a:stretch/>
        </p:blipFill>
        <p:spPr>
          <a:xfrm>
            <a:off x="639720" y="3902040"/>
            <a:ext cx="41083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ctivity 4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162240" y="220680"/>
            <a:ext cx="4915080" cy="119124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Answer the questions in your workbook by reading the following graph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604800" y="1657440"/>
            <a:ext cx="7137360" cy="472428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ctivity 5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162240" y="220680"/>
            <a:ext cx="4915080" cy="119124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Complete the organizational chart in your workbook using the positions provided in the word bank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3" name="Rectangle 2" descr=""/>
          <p:cNvPicPr/>
          <p:nvPr/>
        </p:nvPicPr>
        <p:blipFill>
          <a:blip r:embed="rId1"/>
          <a:stretch/>
        </p:blipFill>
        <p:spPr>
          <a:xfrm>
            <a:off x="914400" y="3730680"/>
            <a:ext cx="3230640" cy="25844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8" descr=""/>
          <p:cNvPicPr/>
          <p:nvPr/>
        </p:nvPicPr>
        <p:blipFill>
          <a:blip r:embed="rId2"/>
          <a:stretch/>
        </p:blipFill>
        <p:spPr>
          <a:xfrm>
            <a:off x="4595760" y="3164040"/>
            <a:ext cx="3232080" cy="1584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9" descr=""/>
          <p:cNvPicPr/>
          <p:nvPr/>
        </p:nvPicPr>
        <p:blipFill>
          <a:blip r:embed="rId3"/>
          <a:stretch/>
        </p:blipFill>
        <p:spPr>
          <a:xfrm>
            <a:off x="4138560" y="4737240"/>
            <a:ext cx="379908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10" descr=""/>
          <p:cNvPicPr/>
          <p:nvPr/>
        </p:nvPicPr>
        <p:blipFill>
          <a:blip r:embed="rId4"/>
          <a:stretch/>
        </p:blipFill>
        <p:spPr>
          <a:xfrm>
            <a:off x="3365640" y="1427040"/>
            <a:ext cx="2852640" cy="194940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11" descr=""/>
          <p:cNvPicPr/>
          <p:nvPr/>
        </p:nvPicPr>
        <p:blipFill>
          <a:blip r:embed="rId5"/>
          <a:stretch/>
        </p:blipFill>
        <p:spPr>
          <a:xfrm>
            <a:off x="212760" y="1889280"/>
            <a:ext cx="332244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2680" y="4377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ctivity 6 -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457200" y="1704960"/>
            <a:ext cx="7162920" cy="155700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Practice your new skills by creating an interactive family tree! Visit the Family Echo website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 u="sng">
                <a:solidFill>
                  <a:srgbClr val="d25814"/>
                </a:solidFill>
                <a:uFillTx/>
                <a:latin typeface="Calibri"/>
                <a:hlinkClick r:id="rId1"/>
              </a:rPr>
              <a:t>http://www.familyecho.co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3165480" y="404640"/>
            <a:ext cx="3238560" cy="1176480"/>
            <a:chOff x="3165480" y="404640"/>
            <a:chExt cx="3238560" cy="1176480"/>
          </a:xfrm>
        </p:grpSpPr>
        <p:pic>
          <p:nvPicPr>
            <p:cNvPr id="91" name="Picture 1" descr=""/>
            <p:cNvPicPr/>
            <p:nvPr/>
          </p:nvPicPr>
          <p:blipFill>
            <a:blip r:embed="rId2"/>
            <a:stretch/>
          </p:blipFill>
          <p:spPr>
            <a:xfrm>
              <a:off x="3165480" y="404640"/>
              <a:ext cx="142992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2"/>
            <p:cNvSpPr/>
            <p:nvPr/>
          </p:nvSpPr>
          <p:spPr>
            <a:xfrm>
              <a:off x="4595400" y="727920"/>
              <a:ext cx="180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CA" sz="1800" spc="-1" strike="noStrike">
                  <a:solidFill>
                    <a:srgbClr val="2f2b20"/>
                  </a:solidFill>
                  <a:latin typeface="Andale Mono"/>
                  <a:ea typeface="Andale Mono"/>
                </a:rPr>
                <a:t>Technology Application</a:t>
              </a:r>
              <a:endParaRPr b="0" lang="en-US" sz="1800" spc="-1" strike="noStrike">
                <a:solidFill>
                  <a:srgbClr val="2f2b20"/>
                </a:solidFill>
                <a:latin typeface="Calibri"/>
              </a:endParaRPr>
            </a:p>
          </p:txBody>
        </p:sp>
      </p:grpSp>
      <p:pic>
        <p:nvPicPr>
          <p:cNvPr id="93" name="Picture 5" descr="Computer-Guy.png"/>
          <p:cNvPicPr/>
          <p:nvPr/>
        </p:nvPicPr>
        <p:blipFill>
          <a:blip r:embed="rId3"/>
          <a:stretch/>
        </p:blipFill>
        <p:spPr>
          <a:xfrm>
            <a:off x="473040" y="4302000"/>
            <a:ext cx="3888000" cy="2244960"/>
          </a:xfrm>
          <a:prstGeom prst="rect">
            <a:avLst/>
          </a:prstGeom>
          <a:ln w="0">
            <a:noFill/>
          </a:ln>
        </p:spPr>
      </p:pic>
      <p:sp>
        <p:nvSpPr>
          <p:cNvPr id="94" name="Cloud Callout 7"/>
          <p:cNvSpPr/>
          <p:nvPr/>
        </p:nvSpPr>
        <p:spPr>
          <a:xfrm>
            <a:off x="4902120" y="3544920"/>
            <a:ext cx="3308400" cy="2636640"/>
          </a:xfrm>
          <a:prstGeom prst="cloudCallout">
            <a:avLst>
              <a:gd name="adj1" fmla="val -75592"/>
              <a:gd name="adj2" fmla="val -4069"/>
            </a:avLst>
          </a:prstGeom>
          <a:solidFill>
            <a:srgbClr val="ced3d1"/>
          </a:solidFill>
          <a:ln w="12600">
            <a:solidFill>
              <a:srgbClr val="91a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4"/>
          <a:stretch/>
        </p:blipFill>
        <p:spPr>
          <a:xfrm>
            <a:off x="5732640" y="4051440"/>
            <a:ext cx="1887480" cy="13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9" descr="C:\Users\rcookrit\Pictures\LLO_proposed_logo_white_background_special_colour (3).jpg"/>
          <p:cNvPicPr/>
          <p:nvPr/>
        </p:nvPicPr>
        <p:blipFill>
          <a:blip r:embed="rId1"/>
          <a:stretch/>
        </p:blipFill>
        <p:spPr>
          <a:xfrm>
            <a:off x="2782800" y="1112760"/>
            <a:ext cx="2214720" cy="1803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1108080" y="3496320"/>
            <a:ext cx="58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Cambria"/>
                <a:ea typeface="MS Mincho"/>
              </a:rPr>
              <a:t>©2016 Laubach Literacy Ontario</a:t>
            </a: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Cambria"/>
                <a:ea typeface="MS Mincho"/>
              </a:rPr>
              <a:t>This Employment Ontario project is funded in part by the Government of Canada and the Government of Ontario and through the Canada Ontario Job Fund Agreement.</a:t>
            </a: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10" descr=""/>
          <p:cNvPicPr/>
          <p:nvPr/>
        </p:nvPicPr>
        <p:blipFill>
          <a:blip r:embed="rId2"/>
          <a:stretch/>
        </p:blipFill>
        <p:spPr>
          <a:xfrm>
            <a:off x="1317600" y="4579920"/>
            <a:ext cx="5477040" cy="7430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4481640" y="291816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In this section you will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Learn about a variety of simple graphs: what they show, how they are used, what they look like, and how to read the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Evaluate, predict and apply data displayed in graph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Note: This section is split into two parts. This lesson is the second part of two in Understanding Basic Charts and Graph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1" name="Picture 3" descr="antiFlash-icons-graphs.png"/>
          <p:cNvPicPr/>
          <p:nvPr/>
        </p:nvPicPr>
        <p:blipFill>
          <a:blip r:embed="rId1"/>
          <a:stretch/>
        </p:blipFill>
        <p:spPr>
          <a:xfrm>
            <a:off x="3602160" y="3029040"/>
            <a:ext cx="19447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2b20"/>
                </a:solidFill>
                <a:latin typeface="Calibri"/>
              </a:rPr>
              <a:t>What do they show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They use symbols to represent data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The size, amount, colours or patterns represents this data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e.g. a smiley face could be used to represent one satisfied customer, while a frowning face could be used to represent one dissatisfied custome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2b20"/>
                </a:solidFill>
                <a:latin typeface="Calibri"/>
              </a:rPr>
              <a:t>How are they used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They are used to show data that does not need to be read precisely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Pictographs display the data in a more engaging or interesting way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They are used most frequently when a company is trying to communicate with the public, or at least to a more general audienc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Pictograph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Pictographs Cont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36840"/>
            <a:ext cx="762012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2b20"/>
                </a:solidFill>
                <a:latin typeface="Calibri"/>
              </a:rPr>
              <a:t>What do they look like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They can take on a variety of format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Common examples include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25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Symbols used repeatedly to show amounts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25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Parts of symbols used to show proportions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25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Symbols shaded to show proportions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25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Different sized symbols used to show amounts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2b20"/>
                </a:solidFill>
                <a:latin typeface="Calibri"/>
              </a:rPr>
              <a:t>How to read them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99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Locate the titl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99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Scan the graph and identify the symbol being us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99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Think about what the symbol represents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25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This information may be found in another part of the graph (like a legend)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25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Otherwise, you need to make guess based on what other information is present in the graph (such as categories or the title)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ctivity 1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457200" y="1616040"/>
            <a:ext cx="2378160" cy="192276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Answer the questions in your workbook by reading the adjacent graph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081240" y="274680"/>
            <a:ext cx="5129280" cy="625644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141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ctivity 2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162240" y="220680"/>
            <a:ext cx="4915080" cy="192276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As a class, conduct a poll about your favourite hot beverages. Record the data. Create a pictograph to visually represent the data using the template provided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85760" y="2879640"/>
            <a:ext cx="2398680" cy="3786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4003560" y="3475080"/>
            <a:ext cx="299556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2b20"/>
                </a:solidFill>
                <a:latin typeface="Calibri"/>
              </a:rPr>
              <a:t>What do they show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Shapes with text represent different activitie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Arrows connecting the shapes show the order in which the activities occur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They show procedures, processes, work flow, etc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2b20"/>
                </a:solidFill>
                <a:latin typeface="Calibri"/>
              </a:rPr>
              <a:t>How are they used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Workers use process diagrams to visualize the flow of activities in a proces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Examples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Managers use work flow charts to see where they can make their employees more efficient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Workers in a call centre follow process diagrams to answer questions or deal with complaint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Process Diagram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Process Diagrams Cont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417320"/>
            <a:ext cx="396252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What do they look lik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2f2b20"/>
                </a:solidFill>
                <a:latin typeface="Calibri"/>
              </a:rPr>
              <a:t>They contain boxes of different shapes or colours that show a decision or action. 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2f2b20"/>
                </a:solidFill>
                <a:latin typeface="Calibri"/>
              </a:rPr>
              <a:t>Arrows connect these boxes to show which decisions/actions lead to other decisions/action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419360" y="1417320"/>
            <a:ext cx="386388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How to read them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2f2b20"/>
                </a:solidFill>
                <a:latin typeface="Calibri"/>
              </a:rPr>
              <a:t>To read a process diagram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2" marL="1233360" indent="-457200">
              <a:lnSpc>
                <a:spcPct val="80000"/>
              </a:lnSpc>
              <a:spcBef>
                <a:spcPts val="400"/>
              </a:spcBef>
              <a:buClr>
                <a:srgbClr val="d2cb6c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Find the title.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233360" indent="-457200">
              <a:lnSpc>
                <a:spcPct val="80000"/>
              </a:lnSpc>
              <a:spcBef>
                <a:spcPts val="400"/>
              </a:spcBef>
              <a:buClr>
                <a:srgbClr val="d2cb6c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Scan the graph for the legend and identify what the different colour or shapes mean.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233360" indent="-457200">
              <a:lnSpc>
                <a:spcPct val="80000"/>
              </a:lnSpc>
              <a:spcBef>
                <a:spcPts val="400"/>
              </a:spcBef>
              <a:buClr>
                <a:srgbClr val="d2cb6c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Read the text in the boxes, following the progression indicated by the arrows.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2f2b20"/>
                </a:solidFill>
                <a:latin typeface="Calibri"/>
              </a:rPr>
              <a:t>To use a process diagram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2" marL="1233360" indent="-457200">
              <a:lnSpc>
                <a:spcPct val="80000"/>
              </a:lnSpc>
              <a:spcBef>
                <a:spcPts val="400"/>
              </a:spcBef>
              <a:buClr>
                <a:srgbClr val="d2cb6c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Find the step you are interested in.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233360" indent="-457200">
              <a:lnSpc>
                <a:spcPct val="80000"/>
              </a:lnSpc>
              <a:spcBef>
                <a:spcPts val="400"/>
              </a:spcBef>
              <a:buClr>
                <a:srgbClr val="d2cb6c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Read the steps before that step to see what happened prior.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233360" indent="-457200">
              <a:lnSpc>
                <a:spcPct val="80000"/>
              </a:lnSpc>
              <a:spcBef>
                <a:spcPts val="400"/>
              </a:spcBef>
              <a:buClr>
                <a:srgbClr val="d2cb6c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Follow the arrows from that step to see what must be done next.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8" name="Diagram 5" descr=""/>
          <p:cNvPicPr/>
          <p:nvPr/>
        </p:nvPicPr>
        <p:blipFill>
          <a:blip r:embed="rId1"/>
          <a:stretch/>
        </p:blipFill>
        <p:spPr>
          <a:xfrm>
            <a:off x="719280" y="3449520"/>
            <a:ext cx="370044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9T17:49:26Z</dcterms:created>
  <dc:creator>Shasta Ritchie</dc:creator>
  <dc:description/>
  <dc:language>en-US</dc:language>
  <cp:lastModifiedBy>Cook-Ritchie, Robyn</cp:lastModifiedBy>
  <dcterms:modified xsi:type="dcterms:W3CDTF">2017-01-24T20:03:32Z</dcterms:modified>
  <cp:revision>27</cp:revision>
  <dc:subject/>
  <dc:title>Understanding Basic Graphs and Charts</dc:title>
</cp:coreProperties>
</file>