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3EDBE-E9E7-4B83-B4D5-CFE1911550D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ECE96-57B1-449C-AA23-1D59CFA5344D}" type="slidenum">
              <a:rPr b="0" lang="en-CA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BEDD-9B73-47EB-87E9-3FF5DB4F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C72A-0F71-492B-9163-4C5B22EB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AC4E-BB46-4E30-8AC8-B1AAA7E3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0E95-1C34-4ADE-9E38-8929CA91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6451-94C3-4680-97E2-F913AC7B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DA74-DC3E-43FB-92DD-004AA450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2CA8-DC75-42D1-9981-460B08C6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D6EA-56CC-4916-BCF2-A4F4021A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1C7C-3EDE-4EFB-95BB-4C970151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421F-4CD1-4897-8ACF-E57CE71C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AFDB-9E9E-4C11-AFE3-4CF28B0C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977F-52C8-4BA3-B6BF-580D8C14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6F47-3B04-4C83-90AC-BC983A2D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8094-66A6-4237-9421-9F3D70E4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230C-9674-4325-8552-06A389C7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6788-1D95-4836-AB39-E2BC2E81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F4B7-334D-4C5F-B62F-77858066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D75D-CC15-4D35-8CB3-76CEF617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E732-C8EB-4C97-867B-83A6B04E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00F5-328B-4FDD-BAEA-7E768310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3E40-9276-4445-AF7D-2682B4A8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5F45-C5AC-47B4-8316-DA28A51D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45DD-0DE8-4C38-8C5B-60D3DA7C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AAD6-CC43-4AAA-8718-0B9B4894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6EA4C-22C3-4254-AB5D-ECB61281CE8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6719A-CFE7-4FEF-A546-3AD4279734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675e47"/>
                </a:solidFill>
                <a:latin typeface="Cambria"/>
              </a:rPr>
              <a:t>Email in the Workplace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e8d8c"/>
                </a:solidFill>
                <a:latin typeface="Calibri"/>
              </a:rPr>
              <a:t>Professional Correspondence Using Electronic Mail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2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9" name="Content Placeholder 4" descr="Screen Shot 2016-08-02 at 8.01.20 AM.png"/>
          <p:cNvPicPr/>
          <p:nvPr/>
        </p:nvPicPr>
        <p:blipFill>
          <a:blip r:embed="rId1"/>
          <a:srcRect l="-627" t="0" r="-141" b="0"/>
          <a:stretch/>
        </p:blipFill>
        <p:spPr>
          <a:xfrm>
            <a:off x="2125800" y="1716120"/>
            <a:ext cx="4262400" cy="480060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120" name="Rectangle 3"/>
          <p:cNvSpPr/>
          <p:nvPr/>
        </p:nvSpPr>
        <p:spPr>
          <a:xfrm>
            <a:off x="3162240" y="220680"/>
            <a:ext cx="4915080" cy="119124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Proofread the email below. Underline spelling and grammar mistakes, circle any slang words, and make suggestions on how the email could be better written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68520" y="274320"/>
            <a:ext cx="470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to Writing a Professional Emai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103120"/>
            <a:ext cx="39546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f2b20"/>
                </a:solidFill>
                <a:latin typeface="Calibri"/>
              </a:rPr>
              <a:t>Begin with a greet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f2b20"/>
                </a:solidFill>
                <a:latin typeface="Calibri"/>
              </a:rPr>
              <a:t>Thank the recipient OR State your purpo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f2b20"/>
                </a:solidFill>
                <a:latin typeface="Calibri"/>
              </a:rPr>
              <a:t>Write the main body of your messag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f2b20"/>
                </a:solidFill>
                <a:latin typeface="Calibri"/>
              </a:rPr>
              <a:t>Add final remark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f2b20"/>
                </a:solidFill>
                <a:latin typeface="Calibri"/>
              </a:rPr>
              <a:t>End with a clos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2914560" cy="1103040"/>
          </a:xfrm>
          <a:prstGeom prst="rect">
            <a:avLst/>
          </a:prstGeom>
          <a:ln w="0">
            <a:noFill/>
          </a:ln>
        </p:spPr>
      </p:pic>
      <p:pic>
        <p:nvPicPr>
          <p:cNvPr id="124" name="Content Placeholder 9" descr="Screen Shot 2016-08-01 at 4.55.37 PM.png"/>
          <p:cNvPicPr/>
          <p:nvPr/>
        </p:nvPicPr>
        <p:blipFill>
          <a:blip r:embed="rId2"/>
          <a:srcRect l="0" t="0" r="0" b="-5937"/>
          <a:stretch/>
        </p:blipFill>
        <p:spPr>
          <a:xfrm>
            <a:off x="4411800" y="2103480"/>
            <a:ext cx="3657600" cy="366408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Step 1 - Begin with a greet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599840"/>
            <a:ext cx="76201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Always open your email with a greeti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e.g. "Dear (name goes here)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When writing someone you don't know an email for the first time, address the person by their full name with an appropriate title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e.g. “Ms. Harri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If you do not know whom you are writing to (i.e. you're writing to a company's public email), use: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"To whom it may concern" or "Dear Sir/Madam"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549576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675e47"/>
                </a:solidFill>
                <a:latin typeface="Cambria"/>
              </a:rPr>
              <a:t>Step 1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Begin with a greet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9" name="Content Placeholder 9" descr="Screen Shot 2016-08-01 at 4.55.37 PM.png"/>
          <p:cNvPicPr/>
          <p:nvPr/>
        </p:nvPicPr>
        <p:blipFill>
          <a:blip r:embed="rId1"/>
          <a:srcRect l="-24330" t="0" r="-24330" b="0"/>
          <a:stretch/>
        </p:blipFill>
        <p:spPr>
          <a:xfrm>
            <a:off x="304920" y="380880"/>
            <a:ext cx="7772400" cy="494352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130" name="Frame 7"/>
          <p:cNvSpPr/>
          <p:nvPr/>
        </p:nvSpPr>
        <p:spPr>
          <a:xfrm>
            <a:off x="1433520" y="1415880"/>
            <a:ext cx="2082960" cy="603360"/>
          </a:xfrm>
          <a:custGeom>
            <a:avLst/>
            <a:gdLst/>
            <a:ahLst/>
            <a:rect l="l" t="t" r="r" b="b"/>
            <a:pathLst>
              <a:path w="2084010" h="602365">
                <a:moveTo>
                  <a:pt x="0" y="0"/>
                </a:moveTo>
                <a:lnTo>
                  <a:pt x="2084010" y="0"/>
                </a:lnTo>
                <a:lnTo>
                  <a:pt x="2084010" y="602365"/>
                </a:lnTo>
                <a:lnTo>
                  <a:pt x="0" y="602365"/>
                </a:lnTo>
                <a:lnTo>
                  <a:pt x="0" y="0"/>
                </a:lnTo>
                <a:close/>
                <a:moveTo>
                  <a:pt x="75296" y="75296"/>
                </a:moveTo>
                <a:lnTo>
                  <a:pt x="75296" y="527069"/>
                </a:lnTo>
                <a:lnTo>
                  <a:pt x="2008714" y="527069"/>
                </a:lnTo>
                <a:lnTo>
                  <a:pt x="2008714" y="75296"/>
                </a:lnTo>
                <a:lnTo>
                  <a:pt x="75296" y="7529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a6a278"/>
            </a:solidFill>
            <a:round/>
          </a:ln>
          <a:effectLst>
            <a:outerShdw dist="2556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Step 2A – Thank the recipien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417680"/>
            <a:ext cx="7620120" cy="18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If you are replying to an inquiry or someone has replied to one of your emails, begin with a line of thank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e.g. "Thank you for contacting Company X" or "Thank you for your prompt reply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Thanking the reader always makes you seem more polit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457200" y="34354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Step 2B – State your purpos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4" name="Content Placeholder 5"/>
          <p:cNvSpPr/>
          <p:nvPr/>
        </p:nvSpPr>
        <p:spPr>
          <a:xfrm>
            <a:off x="457200" y="4548240"/>
            <a:ext cx="762012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If you are initiating the correspondence, it may not be possible to include a line of thanks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If this is the case, begin instead by stating your purpose for writing the email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"I am writing to ask about…" or "I am writing in reference to…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549576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675e47"/>
                </a:solidFill>
                <a:latin typeface="Cambria"/>
              </a:rPr>
              <a:t>Step 2B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State your purpose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7" name="Content Placeholder 9" descr="Screen Shot 2016-08-01 at 4.55.37 PM.png"/>
          <p:cNvPicPr/>
          <p:nvPr/>
        </p:nvPicPr>
        <p:blipFill>
          <a:blip r:embed="rId1"/>
          <a:srcRect l="-24330" t="0" r="-24330" b="0"/>
          <a:stretch/>
        </p:blipFill>
        <p:spPr>
          <a:xfrm>
            <a:off x="304920" y="380880"/>
            <a:ext cx="7772400" cy="494352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138" name="Frame 7"/>
          <p:cNvSpPr/>
          <p:nvPr/>
        </p:nvSpPr>
        <p:spPr>
          <a:xfrm>
            <a:off x="1433520" y="1839960"/>
            <a:ext cx="4770360" cy="895320"/>
          </a:xfrm>
          <a:custGeom>
            <a:avLst/>
            <a:gdLst/>
            <a:ahLst/>
            <a:rect l="l" t="t" r="r" b="b"/>
            <a:pathLst>
              <a:path w="4770428" h="895407">
                <a:moveTo>
                  <a:pt x="0" y="0"/>
                </a:moveTo>
                <a:lnTo>
                  <a:pt x="4770428" y="0"/>
                </a:lnTo>
                <a:lnTo>
                  <a:pt x="4770428" y="895407"/>
                </a:lnTo>
                <a:lnTo>
                  <a:pt x="0" y="895407"/>
                </a:lnTo>
                <a:lnTo>
                  <a:pt x="0" y="0"/>
                </a:lnTo>
                <a:close/>
                <a:moveTo>
                  <a:pt x="111926" y="111926"/>
                </a:moveTo>
                <a:lnTo>
                  <a:pt x="111926" y="783481"/>
                </a:lnTo>
                <a:lnTo>
                  <a:pt x="4658502" y="783481"/>
                </a:lnTo>
                <a:lnTo>
                  <a:pt x="4658502" y="111926"/>
                </a:lnTo>
                <a:lnTo>
                  <a:pt x="111926" y="11192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a6a278"/>
            </a:solidFill>
            <a:round/>
          </a:ln>
          <a:effectLst>
            <a:outerShdw dist="2556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119480" y="2327400"/>
            <a:ext cx="2084400" cy="407880"/>
          </a:xfrm>
          <a:prstGeom prst="rect">
            <a:avLst/>
          </a:prstGeom>
          <a:solidFill>
            <a:srgbClr val="ff0000"/>
          </a:solidFill>
          <a:ln w="12600">
            <a:solidFill>
              <a:srgbClr val="a6a278"/>
            </a:solidFill>
            <a:miter/>
          </a:ln>
          <a:effectLst>
            <a:outerShdw dist="1260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88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Step 3 – Write the main body of your messag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871280"/>
            <a:ext cx="762012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One of the most common mistakes people make is disregarding the 2 previous steps, and jumping into the delivery of your main message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Keep your sentences short and clear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Remember to pay attention to grammar and spell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549576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675e47"/>
                </a:solidFill>
                <a:latin typeface="Cambria"/>
              </a:rPr>
              <a:t>Step 3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Write the main body of your message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4" name="Content Placeholder 9" descr="Screen Shot 2016-08-01 at 4.55.37 PM.png"/>
          <p:cNvPicPr/>
          <p:nvPr/>
        </p:nvPicPr>
        <p:blipFill>
          <a:blip r:embed="rId1"/>
          <a:srcRect l="-24330" t="0" r="-24330" b="0"/>
          <a:stretch/>
        </p:blipFill>
        <p:spPr>
          <a:xfrm>
            <a:off x="304920" y="380880"/>
            <a:ext cx="7772400" cy="494352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145" name="Frame 7"/>
          <p:cNvSpPr/>
          <p:nvPr/>
        </p:nvSpPr>
        <p:spPr>
          <a:xfrm>
            <a:off x="1366920" y="2149560"/>
            <a:ext cx="5618160" cy="1285920"/>
          </a:xfrm>
          <a:custGeom>
            <a:avLst/>
            <a:gdLst/>
            <a:ahLst/>
            <a:rect l="l" t="t" r="r" b="b"/>
            <a:pathLst>
              <a:path w="5617058" h="1286131">
                <a:moveTo>
                  <a:pt x="0" y="0"/>
                </a:moveTo>
                <a:lnTo>
                  <a:pt x="5617058" y="0"/>
                </a:lnTo>
                <a:lnTo>
                  <a:pt x="5617058" y="1286131"/>
                </a:lnTo>
                <a:lnTo>
                  <a:pt x="0" y="1286131"/>
                </a:lnTo>
                <a:lnTo>
                  <a:pt x="0" y="0"/>
                </a:lnTo>
                <a:close/>
                <a:moveTo>
                  <a:pt x="160766" y="160766"/>
                </a:moveTo>
                <a:lnTo>
                  <a:pt x="160766" y="1125365"/>
                </a:lnTo>
                <a:lnTo>
                  <a:pt x="5456292" y="1125365"/>
                </a:lnTo>
                <a:lnTo>
                  <a:pt x="5456292" y="160766"/>
                </a:lnTo>
                <a:lnTo>
                  <a:pt x="160766" y="16076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a6a278"/>
            </a:solidFill>
            <a:round/>
          </a:ln>
          <a:effectLst>
            <a:outerShdw dist="2556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366920" y="2149560"/>
            <a:ext cx="2719440" cy="406440"/>
          </a:xfrm>
          <a:prstGeom prst="rect">
            <a:avLst/>
          </a:prstGeom>
          <a:solidFill>
            <a:srgbClr val="ff0000"/>
          </a:solidFill>
          <a:ln w="12600">
            <a:solidFill>
              <a:srgbClr val="a6a278"/>
            </a:solidFill>
            <a:miter/>
          </a:ln>
          <a:effectLst>
            <a:outerShdw dist="1260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88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Step 4 – Add final remark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871280"/>
            <a:ext cx="7620120" cy="30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It's often polite to thank the reader a second time before the end of your email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Start with a thank-you such a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"Thank you for your cooperation”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Complete your closing remarks by adding another line, with something such a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"I look forward to hearing from you” or “If you have any other questions or concerns, don’t hesitate to contact me.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549576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675e47"/>
                </a:solidFill>
                <a:latin typeface="Cambria"/>
              </a:rPr>
              <a:t>Step 4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Add final remarks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1" name="Content Placeholder 9" descr="Screen Shot 2016-08-01 at 4.55.37 PM.png"/>
          <p:cNvPicPr/>
          <p:nvPr/>
        </p:nvPicPr>
        <p:blipFill>
          <a:blip r:embed="rId1"/>
          <a:srcRect l="-24330" t="0" r="-24330" b="0"/>
          <a:stretch/>
        </p:blipFill>
        <p:spPr>
          <a:xfrm>
            <a:off x="304920" y="380880"/>
            <a:ext cx="7772400" cy="494352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152" name="Frame 7"/>
          <p:cNvSpPr/>
          <p:nvPr/>
        </p:nvSpPr>
        <p:spPr>
          <a:xfrm>
            <a:off x="1366920" y="3370320"/>
            <a:ext cx="5618160" cy="814320"/>
          </a:xfrm>
          <a:custGeom>
            <a:avLst/>
            <a:gdLst/>
            <a:ahLst/>
            <a:rect l="l" t="t" r="r" b="b"/>
            <a:pathLst>
              <a:path w="5617058" h="814006">
                <a:moveTo>
                  <a:pt x="0" y="0"/>
                </a:moveTo>
                <a:lnTo>
                  <a:pt x="5617058" y="0"/>
                </a:lnTo>
                <a:lnTo>
                  <a:pt x="5617058" y="814006"/>
                </a:lnTo>
                <a:lnTo>
                  <a:pt x="0" y="814006"/>
                </a:lnTo>
                <a:lnTo>
                  <a:pt x="0" y="0"/>
                </a:lnTo>
                <a:close/>
                <a:moveTo>
                  <a:pt x="101751" y="101751"/>
                </a:moveTo>
                <a:lnTo>
                  <a:pt x="101751" y="712255"/>
                </a:lnTo>
                <a:lnTo>
                  <a:pt x="5515307" y="712255"/>
                </a:lnTo>
                <a:lnTo>
                  <a:pt x="5515307" y="101751"/>
                </a:lnTo>
                <a:lnTo>
                  <a:pt x="101751" y="101751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a6a278"/>
            </a:solidFill>
            <a:round/>
          </a:ln>
          <a:effectLst>
            <a:outerShdw dist="2556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Content Placeholder 9" descr="C:\Users\rcookrit\Pictures\LLO_proposed_logo_white_background_special_colour (3).jpg"/>
          <p:cNvPicPr/>
          <p:nvPr/>
        </p:nvPicPr>
        <p:blipFill>
          <a:blip r:embed="rId1"/>
          <a:stretch/>
        </p:blipFill>
        <p:spPr>
          <a:xfrm>
            <a:off x="2782800" y="1112760"/>
            <a:ext cx="2214720" cy="18036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1108080" y="3496320"/>
            <a:ext cx="58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Cambria"/>
                <a:ea typeface="MS Mincho"/>
              </a:rPr>
              <a:t>©2016 Laubach Literacy Ontario</a:t>
            </a: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Cambria"/>
                <a:ea typeface="MS Mincho"/>
              </a:rPr>
              <a:t>This Employment Ontario project is funded in part by the Government of Canada and the Government of Ontario and through the Canada Ontario Job Fund Agreement.</a:t>
            </a: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1317600" y="4579920"/>
            <a:ext cx="5477040" cy="7430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4481640" y="29181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88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Step 5 – End with a clos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871280"/>
            <a:ext cx="762012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Include an appropriate closing with your name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e.g. "Best regards" or "Sincerely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Avoid using informal closings such a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"Best wishes" or "Your friend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Use your full name at the bottom of your message. If you are emailing on behalf of a company, you can also include company information below your nam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549576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675e47"/>
                </a:solidFill>
                <a:latin typeface="Cambria"/>
              </a:rPr>
              <a:t>Step 5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End with a clos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7" name="Content Placeholder 9" descr="Screen Shot 2016-08-01 at 4.55.37 PM.png"/>
          <p:cNvPicPr/>
          <p:nvPr/>
        </p:nvPicPr>
        <p:blipFill>
          <a:blip r:embed="rId1"/>
          <a:srcRect l="-24330" t="0" r="-24330" b="0"/>
          <a:stretch/>
        </p:blipFill>
        <p:spPr>
          <a:xfrm>
            <a:off x="304920" y="380880"/>
            <a:ext cx="7772400" cy="494352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158" name="Frame 7"/>
          <p:cNvSpPr/>
          <p:nvPr/>
        </p:nvSpPr>
        <p:spPr>
          <a:xfrm>
            <a:off x="1366920" y="4054320"/>
            <a:ext cx="1531800" cy="1090800"/>
          </a:xfrm>
          <a:custGeom>
            <a:avLst/>
            <a:gdLst/>
            <a:ahLst/>
            <a:rect l="l" t="t" r="r" b="b"/>
            <a:pathLst>
              <a:path w="1530445" h="1090768">
                <a:moveTo>
                  <a:pt x="0" y="0"/>
                </a:moveTo>
                <a:lnTo>
                  <a:pt x="1530445" y="0"/>
                </a:lnTo>
                <a:lnTo>
                  <a:pt x="1530445" y="1090768"/>
                </a:lnTo>
                <a:lnTo>
                  <a:pt x="0" y="1090768"/>
                </a:lnTo>
                <a:lnTo>
                  <a:pt x="0" y="0"/>
                </a:lnTo>
                <a:close/>
                <a:moveTo>
                  <a:pt x="136346" y="136346"/>
                </a:moveTo>
                <a:lnTo>
                  <a:pt x="136346" y="954422"/>
                </a:lnTo>
                <a:lnTo>
                  <a:pt x="1394099" y="954422"/>
                </a:lnTo>
                <a:lnTo>
                  <a:pt x="1394099" y="136346"/>
                </a:lnTo>
                <a:lnTo>
                  <a:pt x="136346" y="13634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a6a278"/>
            </a:solidFill>
            <a:round/>
          </a:ln>
          <a:effectLst>
            <a:outerShdw dist="2556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3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3657600" cy="98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bebd"/>
            </a:solidFill>
            <a:miter/>
          </a:ln>
        </p:spPr>
        <p:txBody>
          <a:bodyPr anchor="b">
            <a:normAutofit fontScale="98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675e47"/>
                </a:solidFill>
                <a:latin typeface="Calibri"/>
              </a:rPr>
              <a:t>I am writing to ask about purchasing lollipops in bulk for resale at my candy store. 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3162240" y="334800"/>
            <a:ext cx="4915080" cy="119124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Order the following blocks of text from 1-5 to create a comprehensive emai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 rot="21010200">
            <a:off x="3404880" y="5690880"/>
            <a:ext cx="229392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9cbebd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675e47"/>
                </a:solidFill>
                <a:latin typeface="Calibri"/>
              </a:rPr>
              <a:t>Dear Mr. Wonka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3" name="Text Placeholder 6"/>
          <p:cNvSpPr/>
          <p:nvPr/>
        </p:nvSpPr>
        <p:spPr>
          <a:xfrm rot="192000">
            <a:off x="3925440" y="1855440"/>
            <a:ext cx="3657600" cy="16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675e47"/>
                </a:solidFill>
                <a:latin typeface="Calibri"/>
              </a:rPr>
              <a:t>I would like to order 10 boxes of 24 lollipops. If you could send me a quote, including the costs of shipping and handling, that would be greatly appreciated. 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Text Placeholder 6"/>
          <p:cNvSpPr/>
          <p:nvPr/>
        </p:nvSpPr>
        <p:spPr>
          <a:xfrm rot="1090200">
            <a:off x="4614480" y="4374720"/>
            <a:ext cx="3657600" cy="98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675e47"/>
                </a:solidFill>
                <a:latin typeface="Calibri"/>
              </a:rPr>
              <a:t>Thank-you for your time. I look forward to conducting business with you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5" name="Text Placeholder 6"/>
          <p:cNvSpPr/>
          <p:nvPr/>
        </p:nvSpPr>
        <p:spPr>
          <a:xfrm rot="21262800">
            <a:off x="873000" y="2149560"/>
            <a:ext cx="2398680" cy="184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675e47"/>
                </a:solidFill>
                <a:latin typeface="Calibri"/>
              </a:rPr>
              <a:t>Best Regards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675e47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675e47"/>
                </a:solidFill>
                <a:latin typeface="Calibri"/>
              </a:rPr>
              <a:t>Ellen Downd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675e47"/>
                </a:solidFill>
                <a:latin typeface="Calibri"/>
              </a:rPr>
              <a:t>Owner/Co-Found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675e47"/>
                </a:solidFill>
                <a:latin typeface="Calibri"/>
              </a:rPr>
              <a:t>Sweet Trea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4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162240" y="457200"/>
            <a:ext cx="4915080" cy="119124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Write a short email based on the following scenario by filling in the template in your workbook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68" name="Diagram 7" descr=""/>
          <p:cNvPicPr/>
          <p:nvPr/>
        </p:nvPicPr>
        <p:blipFill>
          <a:blip r:embed="rId1"/>
          <a:stretch/>
        </p:blipFill>
        <p:spPr>
          <a:xfrm>
            <a:off x="268200" y="1432080"/>
            <a:ext cx="79614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72680" y="5900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5 -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57200" y="2168640"/>
            <a:ext cx="7620120" cy="375156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Split into pairs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In your pairs make up a scenario similar to the one in Activity 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Log into your email accou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Have Partner A write and send a professional email about the scenario to Partner B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Have Partner B write a formal reply and send it to Partner A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Reread both emails as a pair and reflect. What was done well? What could have been improved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3165480" y="558720"/>
            <a:ext cx="3238560" cy="1174680"/>
            <a:chOff x="3165480" y="558720"/>
            <a:chExt cx="3238560" cy="1174680"/>
          </a:xfrm>
        </p:grpSpPr>
        <p:pic>
          <p:nvPicPr>
            <p:cNvPr id="172" name="Picture 1" descr=""/>
            <p:cNvPicPr/>
            <p:nvPr/>
          </p:nvPicPr>
          <p:blipFill>
            <a:blip r:embed="rId1"/>
            <a:stretch/>
          </p:blipFill>
          <p:spPr>
            <a:xfrm>
              <a:off x="3165480" y="558720"/>
              <a:ext cx="142992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2"/>
            <p:cNvSpPr/>
            <p:nvPr/>
          </p:nvSpPr>
          <p:spPr>
            <a:xfrm>
              <a:off x="4595400" y="881280"/>
              <a:ext cx="180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1800" spc="-1" strike="noStrike">
                  <a:solidFill>
                    <a:srgbClr val="2f2b20"/>
                  </a:solidFill>
                  <a:latin typeface="Andale Mono"/>
                  <a:ea typeface="Andale Mono"/>
                </a:rPr>
                <a:t>Technology Application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In this section you will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06600"/>
            <a:ext cx="762012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Identify the differences between a professional email and a personal em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Learn and apply the five steps to writing an effective formal emai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433600" y="3340080"/>
            <a:ext cx="29718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22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What makes a professional email?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2222640"/>
            <a:ext cx="762012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Manner of add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How are you referring to the reader? How does the reader refer to you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Ton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How does the message make you feel? How will the reader feel reading your message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Cont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What information does the message contain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Grammar/Spelling/Sla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Is the message written with care?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Manner of Addres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5" name="Content Placeholder 3" descr=""/>
          <p:cNvPicPr/>
          <p:nvPr/>
        </p:nvPicPr>
        <p:blipFill>
          <a:blip r:embed="rId1"/>
          <a:stretch/>
        </p:blipFill>
        <p:spPr>
          <a:xfrm>
            <a:off x="371520" y="1603440"/>
            <a:ext cx="77184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To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378000" y="1603440"/>
            <a:ext cx="77547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Conten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9" name="Content Placeholder 3" descr=""/>
          <p:cNvPicPr/>
          <p:nvPr/>
        </p:nvPicPr>
        <p:blipFill>
          <a:blip r:embed="rId1"/>
          <a:stretch/>
        </p:blipFill>
        <p:spPr>
          <a:xfrm>
            <a:off x="378000" y="1603440"/>
            <a:ext cx="7723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Grammar/Spelling/Sla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1" name="Content Placeholder 3" descr=""/>
          <p:cNvPicPr/>
          <p:nvPr/>
        </p:nvPicPr>
        <p:blipFill>
          <a:blip r:embed="rId1"/>
          <a:stretch/>
        </p:blipFill>
        <p:spPr>
          <a:xfrm>
            <a:off x="378000" y="1603440"/>
            <a:ext cx="7796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0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1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3657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675e47"/>
                </a:solidFill>
                <a:latin typeface="Calibri"/>
              </a:rPr>
              <a:t>Email #1</a:t>
            </a:r>
            <a:r>
              <a:rPr b="1" lang="en-CA" sz="2000" spc="-1" strike="noStrike">
                <a:solidFill>
                  <a:srgbClr val="675e47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4" name="Content Placeholder 9" descr="Screen Shot 2016-08-01 at 4.55.37 PM.png"/>
          <p:cNvPicPr/>
          <p:nvPr/>
        </p:nvPicPr>
        <p:blipFill>
          <a:blip r:embed="rId1"/>
          <a:srcRect l="0" t="0" r="0" b="-5937"/>
          <a:stretch/>
        </p:blipFill>
        <p:spPr>
          <a:xfrm>
            <a:off x="457200" y="2462040"/>
            <a:ext cx="3657600" cy="366408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19720" y="1534680"/>
            <a:ext cx="3657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675e47"/>
                </a:solidFill>
                <a:latin typeface="Calibri"/>
              </a:rPr>
              <a:t>Email #2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6" name="Content Placeholder 10" descr="Screen Shot 2016-08-01 at 5.00.22 PM.png"/>
          <p:cNvPicPr/>
          <p:nvPr/>
        </p:nvPicPr>
        <p:blipFill>
          <a:blip r:embed="rId2"/>
          <a:srcRect l="0" t="0" r="0" b="-128644"/>
          <a:stretch/>
        </p:blipFill>
        <p:spPr>
          <a:xfrm>
            <a:off x="4419720" y="2462040"/>
            <a:ext cx="3657600" cy="366408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117" name="Rectangle 8"/>
          <p:cNvSpPr/>
          <p:nvPr/>
        </p:nvSpPr>
        <p:spPr>
          <a:xfrm>
            <a:off x="3162240" y="457200"/>
            <a:ext cx="4915080" cy="82548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Identify the differences between the two emails below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ook-Ritchie, Robyn</cp:lastModifiedBy>
  <dcterms:modified xsi:type="dcterms:W3CDTF">2017-01-24T20:01:05Z</dcterms:modified>
  <cp:revision>59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_Status">
    <vt:lpwstr>Not Started</vt:lpwstr>
  </property>
  <property fmtid="{D5CDD505-2E9C-101B-9397-08002B2CF9AE}" pid="4" name="_Version">
    <vt:lpwstr/>
  </property>
</Properties>
</file>