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AB04-646A-4B89-B2DD-B3FF3D3A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3413-847C-40CA-9D2B-5CB2728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549D-6DF6-4A7E-B352-9074A040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1E48-A0DB-4040-911F-037A1E3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00F4-41FF-4CDC-9B8E-A94CB99D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F24E-B19F-4A37-A8BB-695651AB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7CBD-5736-4A67-8113-AFD147B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88A9-668F-494E-AF9C-60AAA34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E23B-E3C7-4E69-A2CD-1376810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FE74-22EA-4AC1-8685-65B4125F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F0A0-6DD1-4FFC-8C8B-E3FBD70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E195-6050-44D4-8915-2FDCF90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8ABEF-7310-44DC-B937-78E691723A2C}" type="slidenum">
              <a:rPr b="0" lang="en-CA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675e47"/>
                </a:solidFill>
                <a:latin typeface="Cambria"/>
              </a:rPr>
              <a:t>Understanding Basic Graphs and Chart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e8d8c"/>
                </a:solidFill>
                <a:latin typeface="Calibri"/>
              </a:rPr>
              <a:t>Part 1 of 2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Circle Graph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417680"/>
            <a:ext cx="396252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Single or multiple circles may be used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When more than one circle is used, the smaller circle displays information about a portion of the larger circle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Information about pieces of the circle may be placed directly on the circle, or in a legend outside of the circle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How to read them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Locate the title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Find the legend, if there is one, and use it to identify each segment of the circle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Scan the circle for any other information (data labels on circle graphs often contain a lot of important information, such as percentages, numbers, etc.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25"/>
              </a:spcBef>
              <a:buClr>
                <a:srgbClr val="a9a57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73" name="Content Placeholder 4"/>
          <p:cNvGraphicFramePr/>
          <p:nvPr/>
        </p:nvGraphicFramePr>
        <p:xfrm>
          <a:off x="4368960" y="1486080"/>
          <a:ext cx="375912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486080"/>
                    <a:ext cx="375912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following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77800" y="1538280"/>
            <a:ext cx="7365960" cy="507996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3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162240" y="433440"/>
            <a:ext cx="4915080" cy="192276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Using the template in your workbook, create a circle graph that displays how you spend your time in one day. Use the table to organize your data, and then fill in the empty circle graph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0" name="Picture 5" descr="analogclock.png"/>
          <p:cNvPicPr/>
          <p:nvPr/>
        </p:nvPicPr>
        <p:blipFill>
          <a:blip r:embed="rId1"/>
          <a:stretch/>
        </p:blipFill>
        <p:spPr>
          <a:xfrm rot="1150800">
            <a:off x="5127480" y="2943360"/>
            <a:ext cx="2862360" cy="28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Deep-Thought.png"/>
          <p:cNvPicPr/>
          <p:nvPr/>
        </p:nvPicPr>
        <p:blipFill>
          <a:blip r:embed="rId2"/>
          <a:stretch/>
        </p:blipFill>
        <p:spPr>
          <a:xfrm>
            <a:off x="457200" y="3506760"/>
            <a:ext cx="42782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Points on a line graph represent quanti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se points are connected by a single line or by a multitude of smaller lin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 shape and direction of lines show how quantities chang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se quantities may be just about anything: people, money, animals, weather events, etc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They can be used to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how how quantities change over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he population of Brantford grew from 90 000 to 91 000 over a period of 2 year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he number of Brantford citizens under the age of 19 has decreased steadily over the past 10 years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how trends in data and predict future values by adding a </a:t>
            </a:r>
            <a:r>
              <a:rPr b="0" i="1" lang="en-CA" sz="2000" spc="-1" strike="noStrike">
                <a:solidFill>
                  <a:srgbClr val="2f2b20"/>
                </a:solidFill>
                <a:latin typeface="Calibri"/>
              </a:rPr>
              <a:t>trendl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Line Graph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Line Graph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36480"/>
            <a:ext cx="3857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They contain two axis (like a bar graph), and extend horizontally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The x-axis typically represents units of time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The y-axis marks whatever is being measured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326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2f2b20"/>
                </a:solidFill>
                <a:latin typeface="Calibri"/>
              </a:rPr>
              <a:t>e.g. quantity, quality, speed, distance, etc.</a:t>
            </a:r>
            <a:endParaRPr b="0" lang="en-US" sz="1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Multiple quantities can be displayed on a single graph by drawing more than one line on the same pair of axis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How to read them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Locate the title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Find the x-axis and the y-axis. The x-axis is almost always displayed from right to left, the y-axis up and down.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Use the legend to identify what information each line represents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2f2b20"/>
                </a:solidFill>
                <a:latin typeface="Calibri"/>
              </a:rPr>
              <a:t>Scan the graph for any additional information, such as data labels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37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6" name="Content Placeholder 4"/>
          <p:cNvGraphicFramePr/>
          <p:nvPr/>
        </p:nvGraphicFramePr>
        <p:xfrm>
          <a:off x="4368960" y="1486080"/>
          <a:ext cx="375912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486080"/>
                    <a:ext cx="375912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4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following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170760" cy="476100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95120" y="-30240"/>
            <a:ext cx="7882200" cy="16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Because line graphs typically compare data over a span of </a:t>
            </a:r>
            <a:r>
              <a:rPr b="0" i="1" lang="en-CA" sz="2200" spc="-1" strike="noStrike">
                <a:solidFill>
                  <a:srgbClr val="2f2b20"/>
                </a:solidFill>
                <a:latin typeface="Calibri"/>
              </a:rPr>
              <a:t>time</a:t>
            </a: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, line graphs can be used to make predictions about </a:t>
            </a:r>
            <a:r>
              <a:rPr b="1" lang="en-CA" sz="2200" spc="-1" strike="noStrike">
                <a:solidFill>
                  <a:srgbClr val="2f2b20"/>
                </a:solidFill>
                <a:latin typeface="Calibri"/>
              </a:rPr>
              <a:t>what will happen in the future</a:t>
            </a: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ow might you use a line graph to make a prediction? What strategy would you use to make a prediction, and why would you use that strategy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y is it more difficult to make predictions based on a bar graph or a circle graph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Exampl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165480" y="279360"/>
            <a:ext cx="4572000" cy="100872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Based on the graph below, can you predict the number of laptop sales for July if the current </a:t>
            </a:r>
            <a:r>
              <a:rPr b="0" i="1" lang="en-CA" sz="2000" spc="-1" strike="noStrike">
                <a:solidFill>
                  <a:srgbClr val="ffffff"/>
                </a:solidFill>
                <a:latin typeface="Calibri"/>
              </a:rPr>
              <a:t>trend</a:t>
            </a: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 continues?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72802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680" y="4377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5 -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1704960"/>
            <a:ext cx="7162920" cy="228852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Test your graph reading skills by solving interactive challenge questions. The quiz is available at the following web addres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ttp://www.mathgoodies.com/lessons/graphs/challenge_unit11.html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3165480" y="404640"/>
            <a:ext cx="3238560" cy="1176480"/>
            <a:chOff x="3165480" y="404640"/>
            <a:chExt cx="3238560" cy="1176480"/>
          </a:xfrm>
        </p:grpSpPr>
        <p:pic>
          <p:nvPicPr>
            <p:cNvPr id="99" name="Picture 1" descr=""/>
            <p:cNvPicPr/>
            <p:nvPr/>
          </p:nvPicPr>
          <p:blipFill>
            <a:blip r:embed="rId1"/>
            <a:stretch/>
          </p:blipFill>
          <p:spPr>
            <a:xfrm>
              <a:off x="3165480" y="404640"/>
              <a:ext cx="1429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2"/>
            <p:cNvSpPr/>
            <p:nvPr/>
          </p:nvSpPr>
          <p:spPr>
            <a:xfrm>
              <a:off x="4595400" y="72792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1800" spc="-1" strike="noStrike">
                  <a:solidFill>
                    <a:srgbClr val="2f2b20"/>
                  </a:solidFill>
                  <a:latin typeface="Andale Mono"/>
                  <a:ea typeface="Andale Mono"/>
                </a:rPr>
                <a:t>Technology Application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  <p:pic>
        <p:nvPicPr>
          <p:cNvPr id="101" name="Picture 5" descr="Computer-Guy.png"/>
          <p:cNvPicPr/>
          <p:nvPr/>
        </p:nvPicPr>
        <p:blipFill>
          <a:blip r:embed="rId2"/>
          <a:stretch/>
        </p:blipFill>
        <p:spPr>
          <a:xfrm>
            <a:off x="473040" y="4302000"/>
            <a:ext cx="3888000" cy="2244960"/>
          </a:xfrm>
          <a:prstGeom prst="rect">
            <a:avLst/>
          </a:prstGeom>
          <a:ln w="0">
            <a:noFill/>
          </a:ln>
        </p:spPr>
      </p:pic>
      <p:sp>
        <p:nvSpPr>
          <p:cNvPr id="102" name="Cloud Callout 7"/>
          <p:cNvSpPr/>
          <p:nvPr/>
        </p:nvSpPr>
        <p:spPr>
          <a:xfrm>
            <a:off x="4902120" y="4716360"/>
            <a:ext cx="2820960" cy="1465200"/>
          </a:xfrm>
          <a:prstGeom prst="cloudCallout">
            <a:avLst>
              <a:gd name="adj1" fmla="val -89722"/>
              <a:gd name="adj2" fmla="val -41041"/>
            </a:avLst>
          </a:prstGeom>
          <a:solidFill>
            <a:srgbClr val="ced3d1"/>
          </a:solidFill>
          <a:ln w="12600">
            <a:solidFill>
              <a:srgbClr val="91a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Circle graph? Line graph? Hmmm…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C:\Users\rcookrit\Pictures\LLO_proposed_logo_white_background_special_colour (3).jpg"/>
          <p:cNvPicPr/>
          <p:nvPr/>
        </p:nvPicPr>
        <p:blipFill>
          <a:blip r:embed="rId1"/>
          <a:stretch/>
        </p:blipFill>
        <p:spPr>
          <a:xfrm>
            <a:off x="2782800" y="1112760"/>
            <a:ext cx="221472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108080" y="3496320"/>
            <a:ext cx="58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©2016 Laubach Literacy Ontario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This Employment Ontario project is funded in part by the Government of Canada and the Government of Ontario and through the Canada Ontario Job Fund Agreement.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1317600" y="4579920"/>
            <a:ext cx="5477040" cy="74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4481640" y="2918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In this section you will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Learn about a variety of simple graphs: what they show, how they are used, what they look like, and how to read th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Evaluate, predict and apply data displayed in graph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Note: This section is split into two parts. This lesson is the first part of two in Understanding Basic Charts and Graph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3" descr="antiFlash-icons-graphs.png"/>
          <p:cNvPicPr/>
          <p:nvPr/>
        </p:nvPicPr>
        <p:blipFill>
          <a:blip r:embed="rId1"/>
          <a:stretch/>
        </p:blipFill>
        <p:spPr>
          <a:xfrm>
            <a:off x="3602160" y="3029040"/>
            <a:ext cx="194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Use bars to represent amou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 length of each bar represents a quant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hen read together, these bars </a:t>
            </a:r>
            <a:r>
              <a:rPr b="0" i="1" lang="en-CA" sz="2000" spc="-1" strike="noStrike">
                <a:solidFill>
                  <a:srgbClr val="2f2b20"/>
                </a:solidFill>
                <a:latin typeface="Calibri"/>
              </a:rPr>
              <a:t>compare</a:t>
            </a: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 quanti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They can be used to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how the $ value of sales in different month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hey sold $200 worth of hats in July, and $300 worth of  hats in Augus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Compare how much was produced in different wee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hey produced 50 hats during Week 1, and 60 hats during Week 2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Compare how much of different products were so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hey sold 4 hats yesterday, and 7 hats today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Bar Graph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Bar Graphs Cont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What do they look lik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They can extend vertically or horizontally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They may display data in a single bar, stack data within the same bar, or group related bars together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How to read them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Locate the title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Find the x-axis (usually displays categories) and y-axis (usually displays quantities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Use the legend to identify categorie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Scan the graph for any other types of information, like data labels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56" name="Content Placeholder 4"/>
          <p:cNvGraphicFramePr/>
          <p:nvPr/>
        </p:nvGraphicFramePr>
        <p:xfrm>
          <a:off x="4368960" y="1486080"/>
          <a:ext cx="375912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486080"/>
                    <a:ext cx="375912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62240" y="220680"/>
            <a:ext cx="4915080" cy="119124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by reading the following graph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87520" y="1600200"/>
            <a:ext cx="7365960" cy="507996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195120" y="-30240"/>
            <a:ext cx="7882200" cy="1621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200" spc="-1" strike="noStrike">
                <a:solidFill>
                  <a:srgbClr val="2f2b20"/>
                </a:solidFill>
                <a:latin typeface="Calibri"/>
              </a:rPr>
              <a:t>Bias</a:t>
            </a:r>
            <a:r>
              <a:rPr b="1" lang="en-CA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s</a:t>
            </a:r>
            <a:r>
              <a:rPr b="1" lang="en-CA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prejudice in favour of or against one thing, person, or group compared with another, usually in a way considered to be unfai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ow does decreasing/increasing the range of values along the x-axis or y-axis change how we perceive data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ow can these manipulations  be used to favourably support an author's point of view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Example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165480" y="264960"/>
            <a:ext cx="4572000" cy="100872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</a:rPr>
              <a:t>Three friends go bowling. Robyn and Grant graph their scores. Can you tell who made each graph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89080" y="2351160"/>
            <a:ext cx="3956040" cy="259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413240" y="2351160"/>
            <a:ext cx="3957480" cy="2643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935360" y="194328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Graph 1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078960" y="191124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Graph 2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do they show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Used to represent the parts of something that make up a whole (or percentag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 circle represents the whole, and parts (or proportions) of the whole are depicted as segments of the circl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Other names for a circle graph are "pie graphs" or "pie charts"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They can be used to…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how which products were purchased the mos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tennis balls made up %20 of the month's total sal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Compare the amount of time spent on different activities over a set timesp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e.g. Jack spent 2 hours sorting inventory, 1 hour reorganizing the till, and 2 hours cleaning the washrooms and floors during his 5 hour shift at the Tennis Sto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Circle Graph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9T17:49:26Z</dcterms:created>
  <dc:creator>Shasta Ritchie</dc:creator>
  <dc:description/>
  <dc:language>en-US</dc:language>
  <cp:lastModifiedBy>Cook-Ritchie, Robyn</cp:lastModifiedBy>
  <dcterms:modified xsi:type="dcterms:W3CDTF">2017-01-24T20:04:01Z</dcterms:modified>
  <cp:revision>18</cp:revision>
  <dc:subject/>
  <dc:title>Understanding Basic Graphs and Charts</dc:title>
</cp:coreProperties>
</file>