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3410-2D3F-4C99-BE1F-A903BBF7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B011-DC0B-46E5-B640-1FAEEB4D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EE8A-2788-4944-9F6E-D5978BA3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459E-DEEC-4D74-9AEA-0033FEB8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134F-64DE-4E8A-8C89-AEB0634E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7367-2AD6-4FEF-9E96-432C85CB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BF3D-38A6-41F5-A763-5DDEA6DB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DE1A-17FB-4B4E-8372-AA1B2623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02C5-43A6-4D59-89C3-4D597BFF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1D55-472A-44D4-B38E-55832479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475F-3262-40F5-B02B-4E1704B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C201-074A-44A6-956D-ADE1E1C9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04AC-7C92-403F-83F3-2DC6959D36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8A76-1323-42DE-8CEA-ED0F23D8C7B3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675e47"/>
                </a:solidFill>
                <a:latin typeface="Cambria"/>
              </a:rPr>
              <a:t>Reading Practical Workplace Communication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e8d8c"/>
                </a:solidFill>
                <a:latin typeface="Calibri"/>
              </a:rPr>
              <a:t>Part 2 of 2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Discussion 2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599840"/>
            <a:ext cx="762012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Have you ever had trouble remembering or understanding what went on at a meeting after the meeting was finished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What might have helped you remember and/or understand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300400" y="3662280"/>
            <a:ext cx="33987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Meeting Minu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417680"/>
            <a:ext cx="76201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What is it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A formal document that records important changes and topics discussed or acted upon at a meeting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There is a standard format that is typically followed when writing meeting minutes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However, the level of writing (formality) and detail vary, depending on the type of meeting they are recorded for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Minutes usually designate a period of time at the end of the meeting to discuss new topics, or topics that did not appear on the agenda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2f2b20"/>
                </a:solidFill>
                <a:latin typeface="Calibri"/>
              </a:rPr>
              <a:t>This portion is usually titled "New Business"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4" name="Picture 4" descr="Deep-Thought.png"/>
          <p:cNvPicPr/>
          <p:nvPr/>
        </p:nvPicPr>
        <p:blipFill>
          <a:blip r:embed="rId1"/>
          <a:stretch/>
        </p:blipFill>
        <p:spPr>
          <a:xfrm>
            <a:off x="2981160" y="4836960"/>
            <a:ext cx="25797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Meeting Minu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417320"/>
            <a:ext cx="762012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ere do I find i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Depending on their contents, they can be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Distributed to those who attended the meet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Posted online or in a public place to inform a larger group of people about the issues/topics discussed or acted upo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6" descr="map-widget-europe.png"/>
          <p:cNvPicPr/>
          <p:nvPr/>
        </p:nvPicPr>
        <p:blipFill>
          <a:blip r:embed="rId1"/>
          <a:stretch/>
        </p:blipFill>
        <p:spPr>
          <a:xfrm>
            <a:off x="2465280" y="3763800"/>
            <a:ext cx="3254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Meeting Minut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417680"/>
            <a:ext cx="762012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y is it importan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Reading and understanding meeting minutes can help you stay up to date on changes or pending changes within the workplac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y allow you to reflect on what happened during a meeting you attended, and clarify anything you did not initially understan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You can refer back to meeting minutes during reports or discussions with coworkers and superio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0" name="Picture 3" descr="warning2.png"/>
          <p:cNvPicPr/>
          <p:nvPr/>
        </p:nvPicPr>
        <p:blipFill>
          <a:blip r:embed="rId1"/>
          <a:stretch/>
        </p:blipFill>
        <p:spPr>
          <a:xfrm>
            <a:off x="3301920" y="4371840"/>
            <a:ext cx="20592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549576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675e47"/>
                </a:solidFill>
                <a:latin typeface="Cambria"/>
              </a:rPr>
              <a:t>Exemplar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Meeting Minute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3" name="Content Placeholder 4" descr=""/>
          <p:cNvPicPr/>
          <p:nvPr/>
        </p:nvPicPr>
        <p:blipFill>
          <a:blip r:embed="rId1"/>
          <a:srcRect l="-204" t="0" r="0" b="0"/>
          <a:stretch/>
        </p:blipFill>
        <p:spPr>
          <a:xfrm>
            <a:off x="514440" y="380880"/>
            <a:ext cx="4414680" cy="524844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94" name="TextBox 8"/>
          <p:cNvSpPr/>
          <p:nvPr/>
        </p:nvSpPr>
        <p:spPr>
          <a:xfrm>
            <a:off x="5386320" y="380880"/>
            <a:ext cx="2691000" cy="91692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Confirms date, time, location, and sometimes the type of meeting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5386320" y="1454040"/>
            <a:ext cx="2691000" cy="119124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Topics are numbered, usually in the same order as they appear in the agenda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5386320" y="3060720"/>
            <a:ext cx="2691000" cy="119124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Details about what was discussed and any decisions/actions made as a result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5386320" y="5126040"/>
            <a:ext cx="2691000" cy="36828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Time the meeting ended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98" name="Straight Arrow Connector 13"/>
          <p:cNvCxnSpPr>
            <a:stCxn id="94" idx="1"/>
          </p:cNvCxnSpPr>
          <p:nvPr/>
        </p:nvCxnSpPr>
        <p:spPr>
          <a:xfrm flipH="1">
            <a:off x="4052520" y="843120"/>
            <a:ext cx="1334160" cy="9432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99" name="Straight Arrow Connector 15"/>
          <p:cNvCxnSpPr>
            <a:stCxn id="95" idx="1"/>
          </p:cNvCxnSpPr>
          <p:nvPr/>
        </p:nvCxnSpPr>
        <p:spPr>
          <a:xfrm flipH="1" flipV="1">
            <a:off x="2403000" y="1964520"/>
            <a:ext cx="2983680" cy="8964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00" name="Straight Arrow Connector 17"/>
          <p:cNvCxnSpPr>
            <a:stCxn id="96" idx="1"/>
          </p:cNvCxnSpPr>
          <p:nvPr/>
        </p:nvCxnSpPr>
        <p:spPr>
          <a:xfrm flipH="1" flipV="1">
            <a:off x="4701960" y="3658320"/>
            <a:ext cx="684720" cy="396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01" name="Straight Arrow Connector 19"/>
          <p:cNvCxnSpPr>
            <a:stCxn id="97" idx="1"/>
          </p:cNvCxnSpPr>
          <p:nvPr/>
        </p:nvCxnSpPr>
        <p:spPr>
          <a:xfrm flipH="1">
            <a:off x="3099960" y="5310360"/>
            <a:ext cx="2286720" cy="1152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2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62240" y="426960"/>
            <a:ext cx="4915080" cy="82548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using the example below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rcRect l="1031" t="0" r="359" b="7050"/>
          <a:stretch/>
        </p:blipFill>
        <p:spPr>
          <a:xfrm>
            <a:off x="2162160" y="1417680"/>
            <a:ext cx="4127400" cy="52513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3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Using a word processor, create a meeting agenda based on the following information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Company name: Willy Wonka  Factory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Meeting attendees: Umpa Lumpa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Date of meeting: December 15, 2015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Items to be discussed and their presenters: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Boris Bubble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Candy cane production forecasts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Preparations for Christmas 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Jeff Jujube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Chocolate river flooding precautions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Introducing guided tours to the public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Lindsay Lolly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New staff break policy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Bubble gum accident, updated safety regulations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Pat Peppermint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f2b20"/>
                </a:solidFill>
                <a:latin typeface="Calibri"/>
              </a:rPr>
              <a:t>New business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Length of the meeting: 2 hour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Date of next meeting: December 22, 2015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165480" y="241200"/>
            <a:ext cx="3238560" cy="1176480"/>
            <a:chOff x="3165480" y="241200"/>
            <a:chExt cx="3238560" cy="1176480"/>
          </a:xfrm>
        </p:grpSpPr>
        <p:pic>
          <p:nvPicPr>
            <p:cNvPr id="108" name="Picture 4" descr=""/>
            <p:cNvPicPr/>
            <p:nvPr/>
          </p:nvPicPr>
          <p:blipFill>
            <a:blip r:embed="rId1"/>
            <a:stretch/>
          </p:blipFill>
          <p:spPr>
            <a:xfrm>
              <a:off x="3165480" y="241200"/>
              <a:ext cx="14299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5"/>
            <p:cNvSpPr/>
            <p:nvPr/>
          </p:nvSpPr>
          <p:spPr>
            <a:xfrm>
              <a:off x="4595400" y="564480"/>
              <a:ext cx="180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2f2b20"/>
                  </a:solidFill>
                  <a:latin typeface="Andale Mono"/>
                  <a:ea typeface="Andale Mono"/>
                </a:rPr>
                <a:t>Technology Application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</p:txBody>
        </p:sp>
      </p:grpSp>
      <p:pic>
        <p:nvPicPr>
          <p:cNvPr id="110" name="Picture 7" descr="lolly.png"/>
          <p:cNvPicPr/>
          <p:nvPr/>
        </p:nvPicPr>
        <p:blipFill>
          <a:blip r:embed="rId2"/>
          <a:stretch/>
        </p:blipFill>
        <p:spPr>
          <a:xfrm rot="481200">
            <a:off x="5290920" y="2317320"/>
            <a:ext cx="18302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C:\Users\rcookrit\Pictures\LLO_proposed_logo_white_background_special_colour (3).jpg"/>
          <p:cNvPicPr/>
          <p:nvPr/>
        </p:nvPicPr>
        <p:blipFill>
          <a:blip r:embed="rId1"/>
          <a:stretch/>
        </p:blipFill>
        <p:spPr>
          <a:xfrm>
            <a:off x="2782800" y="1112760"/>
            <a:ext cx="221472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108080" y="3496320"/>
            <a:ext cx="58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©2016 Laubach Literacy Ontario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This Employment Ontario project is funded in part by the Government of Canada and the Government of Ontario and through the Canada Ontario Job Fund Agreement.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1317600" y="4579920"/>
            <a:ext cx="5477040" cy="743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4481640" y="29181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In this section you will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Read and identify the elements of workplace agendas and meeting minut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Deduce key information from these docu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Practice writing these types of docu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49160" y="3676680"/>
            <a:ext cx="3194280" cy="287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443480" y="4308480"/>
            <a:ext cx="3511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Discussion 1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Have you ever attended a meeting you thought was poorly run or ineffective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Why do you think it ran the way it did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300400" y="3854520"/>
            <a:ext cx="3398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gend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417320"/>
            <a:ext cx="762012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at is i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A meeting outline that includes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Topics to be discussed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Roles throughout the meeting (who discusses what issue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A schedule that shows how long each portion of the meeting will take (how long each issue is discussed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8" name="Picture 4" descr="Deep-Thought.png"/>
          <p:cNvPicPr/>
          <p:nvPr/>
        </p:nvPicPr>
        <p:blipFill>
          <a:blip r:embed="rId1"/>
          <a:stretch/>
        </p:blipFill>
        <p:spPr>
          <a:xfrm>
            <a:off x="2527200" y="4003560"/>
            <a:ext cx="3645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gend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417320"/>
            <a:ext cx="762012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ere do I find i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It is created by the person chosen to lead the meeting, or by someone else who is designated by said lead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is document is typically given out to the meeting's attendees ahead of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This gives the attendees time to prepare points they wish to discuss with the group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Sometimes, the agenda is not given out until the start of the meet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1" name="Picture 6" descr="map-widget-europe.png"/>
          <p:cNvPicPr/>
          <p:nvPr/>
        </p:nvPicPr>
        <p:blipFill>
          <a:blip r:embed="rId1"/>
          <a:stretch/>
        </p:blipFill>
        <p:spPr>
          <a:xfrm>
            <a:off x="2465280" y="4375080"/>
            <a:ext cx="3254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gend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417320"/>
            <a:ext cx="762012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Why is it important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It helps guide discussions that can lead to real changes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It ensures all issues that need to be addressed are given enough time and attention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2f2b20"/>
                </a:solidFill>
                <a:latin typeface="Calibri"/>
              </a:rPr>
              <a:t>It keeps the group focused and reduces the amount of time wasted at a meeting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4" name="Picture 3" descr="warning2.png"/>
          <p:cNvPicPr/>
          <p:nvPr/>
        </p:nvPicPr>
        <p:blipFill>
          <a:blip r:embed="rId1"/>
          <a:stretch/>
        </p:blipFill>
        <p:spPr>
          <a:xfrm>
            <a:off x="2577960" y="3367080"/>
            <a:ext cx="3083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9576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675e47"/>
                </a:solidFill>
                <a:latin typeface="Cambria"/>
              </a:rPr>
              <a:t>Exemplar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Agenda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7" name="Content Placeholder 6" descr=""/>
          <p:cNvPicPr/>
          <p:nvPr/>
        </p:nvPicPr>
        <p:blipFill>
          <a:blip r:embed="rId1"/>
          <a:srcRect l="-336" t="0" r="-869" b="0"/>
          <a:stretch/>
        </p:blipFill>
        <p:spPr>
          <a:xfrm>
            <a:off x="498600" y="380880"/>
            <a:ext cx="4748040" cy="49435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68" name="TextBox 7"/>
          <p:cNvSpPr/>
          <p:nvPr/>
        </p:nvSpPr>
        <p:spPr>
          <a:xfrm>
            <a:off x="5386320" y="380880"/>
            <a:ext cx="2691000" cy="91692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Confirms date, time, and sometimes the location of the meeting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5386320" y="3602160"/>
            <a:ext cx="2691000" cy="91692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Topics of discussion are listed under each presenter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5386320" y="1636560"/>
            <a:ext cx="2691000" cy="146556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Each presentation (or item) on the list is numbered, and may be accompanied by an amount of tim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5386320" y="4862520"/>
            <a:ext cx="2691000" cy="91692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Any other instructions or information is located at the bottom of the pag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72" name="Straight Arrow Connector 12"/>
          <p:cNvCxnSpPr>
            <a:stCxn id="68" idx="1"/>
          </p:cNvCxnSpPr>
          <p:nvPr/>
        </p:nvCxnSpPr>
        <p:spPr>
          <a:xfrm flipH="1">
            <a:off x="4354200" y="843120"/>
            <a:ext cx="1032480" cy="11016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73" name="Straight Arrow Connector 14"/>
          <p:cNvCxnSpPr>
            <a:stCxn id="70" idx="1"/>
          </p:cNvCxnSpPr>
          <p:nvPr/>
        </p:nvCxnSpPr>
        <p:spPr>
          <a:xfrm flipH="1">
            <a:off x="4581000" y="2376000"/>
            <a:ext cx="805680" cy="11844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74" name="Straight Arrow Connector 21"/>
          <p:cNvCxnSpPr>
            <a:stCxn id="69" idx="1"/>
          </p:cNvCxnSpPr>
          <p:nvPr/>
        </p:nvCxnSpPr>
        <p:spPr>
          <a:xfrm flipH="1" flipV="1">
            <a:off x="3447720" y="4050720"/>
            <a:ext cx="1938960" cy="1332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75" name="Straight Arrow Connector 23"/>
          <p:cNvCxnSpPr>
            <a:stCxn id="71" idx="1"/>
          </p:cNvCxnSpPr>
          <p:nvPr/>
        </p:nvCxnSpPr>
        <p:spPr>
          <a:xfrm flipH="1" flipV="1">
            <a:off x="4581000" y="4861800"/>
            <a:ext cx="805680" cy="46260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1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162240" y="426960"/>
            <a:ext cx="4915080" cy="82548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using the example below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8" name="Content Placeholder 5" descr=""/>
          <p:cNvPicPr/>
          <p:nvPr/>
        </p:nvPicPr>
        <p:blipFill>
          <a:blip r:embed="rId1"/>
          <a:srcRect l="174" t="0" r="8" b="0"/>
          <a:stretch/>
        </p:blipFill>
        <p:spPr>
          <a:xfrm>
            <a:off x="1663560" y="1600200"/>
            <a:ext cx="5216760" cy="480060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5:51:53Z</dcterms:created>
  <dc:creator>Shasta Ritchie</dc:creator>
  <dc:description/>
  <dc:language>en-US</dc:language>
  <cp:lastModifiedBy>Cook-Ritchie, Robyn</cp:lastModifiedBy>
  <dcterms:modified xsi:type="dcterms:W3CDTF">2017-01-24T20:03:13Z</dcterms:modified>
  <cp:revision>16</cp:revision>
  <dc:subject/>
  <dc:title>Reading Practical Workplace Communications</dc:title>
</cp:coreProperties>
</file>