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4071-96CC-4982-96D4-56316AE0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4EFC-8859-4E29-996D-CC1D4954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EACC-319E-46FC-B624-64F3FD73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4243-D20D-421F-94E2-0CF6DE5A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09ED-EB27-4D09-A768-6DE1D7F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7257-7111-4E13-B7EA-57FA8576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E503-0120-489E-93BB-91C41834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0514-4B37-4F8B-BA0C-1F7C9A58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C016-8192-4C03-A1EB-934E3FE5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89FC-9D61-4750-A65B-77A7241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706C3-F3D9-4ACA-A32D-890DB4C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0AB2-73BA-44EA-B660-40E5779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3B63-FB06-4A17-964A-722DCF2107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627-3EF7-4D56-8F31-A97189481DF6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675e47"/>
                </a:solidFill>
                <a:latin typeface="Cambria"/>
              </a:rPr>
              <a:t>Reading Practical Workplace Communication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8e8d8c"/>
                </a:solidFill>
                <a:latin typeface="Calibri"/>
              </a:rPr>
              <a:t>Part 1 of 2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Discussion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Have you ever received a memo?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f so, who did you receive it from? What information did it contain? Why do you think you received it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300400" y="3662280"/>
            <a:ext cx="33987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emorand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417320"/>
            <a:ext cx="762012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is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A form of correspondence limited to employees within the same company or section of a compan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hey are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Usually address a single subjec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Straight to the poin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Usually no more than one page lon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4" descr="Deep-Thought.png"/>
          <p:cNvPicPr/>
          <p:nvPr/>
        </p:nvPicPr>
        <p:blipFill>
          <a:blip r:embed="rId1"/>
          <a:stretch/>
        </p:blipFill>
        <p:spPr>
          <a:xfrm>
            <a:off x="2527200" y="4003560"/>
            <a:ext cx="3645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emorand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417320"/>
            <a:ext cx="762012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ere do I find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Memos are typically delivered directly to the intended read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They can be delivered as a letter, a handout,  an email, etc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In some cases, memos can be posted like a notice, and contain similar featur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5" name="Picture 6" descr="map-widget-europe.png"/>
          <p:cNvPicPr/>
          <p:nvPr/>
        </p:nvPicPr>
        <p:blipFill>
          <a:blip r:embed="rId1"/>
          <a:stretch/>
        </p:blipFill>
        <p:spPr>
          <a:xfrm>
            <a:off x="2465280" y="3763800"/>
            <a:ext cx="3254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Memorand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417680"/>
            <a:ext cx="762012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y is it importan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Memos can be helpful to you in the workplace because they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Provide you with new informa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Give updates on services, products, or workplace situation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Instruct you on a certain subjec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Clarify an event, situation, procedure, etc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If you are delivered a memo at work, you are expected to know the information it contai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3" descr="warning2.png"/>
          <p:cNvPicPr/>
          <p:nvPr/>
        </p:nvPicPr>
        <p:blipFill>
          <a:blip r:embed="rId1"/>
          <a:stretch/>
        </p:blipFill>
        <p:spPr>
          <a:xfrm>
            <a:off x="3301920" y="4371840"/>
            <a:ext cx="20592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Exemplar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Memoranda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Content Placeholder 6" descr=""/>
          <p:cNvPicPr/>
          <p:nvPr/>
        </p:nvPicPr>
        <p:blipFill>
          <a:blip r:embed="rId1"/>
          <a:srcRect l="0" t="0" r="-24" b="0"/>
          <a:stretch/>
        </p:blipFill>
        <p:spPr>
          <a:xfrm>
            <a:off x="304920" y="380880"/>
            <a:ext cx="5661000" cy="49435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92" name="TextBox 4"/>
          <p:cNvSpPr/>
          <p:nvPr/>
        </p:nvSpPr>
        <p:spPr>
          <a:xfrm>
            <a:off x="3498840" y="378000"/>
            <a:ext cx="2455920" cy="36828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he intended audienc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498840" y="903240"/>
            <a:ext cx="1333440" cy="36828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he sender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498840" y="1415880"/>
            <a:ext cx="3060720" cy="36828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he date the memo was sent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498840" y="1978200"/>
            <a:ext cx="5183280" cy="36828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he subject, a brief summary of the memo’s content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96" name="Straight Arrow Connector 9"/>
          <p:cNvCxnSpPr/>
          <p:nvPr/>
        </p:nvCxnSpPr>
        <p:spPr>
          <a:xfrm flipH="1">
            <a:off x="2834640" y="576000"/>
            <a:ext cx="664200" cy="1476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97" name="Straight Arrow Connector 11"/>
          <p:cNvCxnSpPr/>
          <p:nvPr/>
        </p:nvCxnSpPr>
        <p:spPr>
          <a:xfrm flipH="1">
            <a:off x="2687040" y="1063440"/>
            <a:ext cx="811800" cy="2916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98" name="Straight Arrow Connector 13"/>
          <p:cNvCxnSpPr>
            <a:stCxn id="94" idx="1"/>
          </p:cNvCxnSpPr>
          <p:nvPr/>
        </p:nvCxnSpPr>
        <p:spPr>
          <a:xfrm flipH="1">
            <a:off x="2834640" y="1601640"/>
            <a:ext cx="664200" cy="2304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99" name="Straight Arrow Connector 15"/>
          <p:cNvCxnSpPr>
            <a:stCxn id="95" idx="1"/>
          </p:cNvCxnSpPr>
          <p:nvPr/>
        </p:nvCxnSpPr>
        <p:spPr>
          <a:xfrm flipH="1" flipV="1">
            <a:off x="2687040" y="2155320"/>
            <a:ext cx="811800" cy="864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sp>
        <p:nvSpPr>
          <p:cNvPr id="100" name="TextBox 16"/>
          <p:cNvSpPr/>
          <p:nvPr/>
        </p:nvSpPr>
        <p:spPr>
          <a:xfrm>
            <a:off x="5954760" y="2928960"/>
            <a:ext cx="2662200" cy="64260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It is important to note dates/tim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618080" y="4141800"/>
            <a:ext cx="306072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Pay attention to details, such as specific instructions or alternate arrangements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02" name="Straight Arrow Connector 19"/>
          <p:cNvCxnSpPr>
            <a:stCxn id="100" idx="1"/>
          </p:cNvCxnSpPr>
          <p:nvPr/>
        </p:nvCxnSpPr>
        <p:spPr>
          <a:xfrm flipH="1">
            <a:off x="4119120" y="3252960"/>
            <a:ext cx="1836000" cy="1152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103" name="Straight Arrow Connector 21"/>
          <p:cNvCxnSpPr>
            <a:stCxn id="101" idx="1"/>
          </p:cNvCxnSpPr>
          <p:nvPr/>
        </p:nvCxnSpPr>
        <p:spPr>
          <a:xfrm flipH="1" flipV="1">
            <a:off x="3040920" y="3987000"/>
            <a:ext cx="1577160" cy="6166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2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62240" y="426960"/>
            <a:ext cx="4915080" cy="8254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using the example below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6" name="Content Placeholder 9" descr=""/>
          <p:cNvPicPr/>
          <p:nvPr/>
        </p:nvPicPr>
        <p:blipFill>
          <a:blip r:embed="rId1"/>
          <a:srcRect l="559" t="0" r="559" b="0"/>
          <a:stretch/>
        </p:blipFill>
        <p:spPr>
          <a:xfrm>
            <a:off x="457200" y="1600200"/>
            <a:ext cx="7620120" cy="480060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3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Use word-processing software to design a notice based on the following information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Company Name: Green Tree Grocer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vent: A staff barbeq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Date: July 21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Time: 4-9 P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Location: Terrace Hill Park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Other information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Parking is located at north entrance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Veggie burgers will be availabl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Feel free to include an image or clipart related to the event your notice is advertising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3165480" y="241200"/>
            <a:ext cx="3238560" cy="1176480"/>
            <a:chOff x="3165480" y="241200"/>
            <a:chExt cx="3238560" cy="1176480"/>
          </a:xfrm>
        </p:grpSpPr>
        <p:pic>
          <p:nvPicPr>
            <p:cNvPr id="110" name="Picture 4" descr=""/>
            <p:cNvPicPr/>
            <p:nvPr/>
          </p:nvPicPr>
          <p:blipFill>
            <a:blip r:embed="rId1"/>
            <a:stretch/>
          </p:blipFill>
          <p:spPr>
            <a:xfrm>
              <a:off x="3165480" y="241200"/>
              <a:ext cx="14299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5"/>
            <p:cNvSpPr/>
            <p:nvPr/>
          </p:nvSpPr>
          <p:spPr>
            <a:xfrm>
              <a:off x="4595400" y="564480"/>
              <a:ext cx="180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2f2b20"/>
                  </a:solidFill>
                  <a:latin typeface="Andale Mono"/>
                  <a:ea typeface="Andale Mono"/>
                </a:rPr>
                <a:t>Technology Application</a:t>
              </a:r>
              <a:endParaRPr b="0" lang="en-US" sz="1800" spc="-1" strike="noStrike">
                <a:solidFill>
                  <a:srgbClr val="2f2b20"/>
                </a:solidFill>
                <a:latin typeface="Calibri"/>
              </a:endParaRPr>
            </a:p>
          </p:txBody>
        </p:sp>
      </p:grp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4702320" y="2189160"/>
            <a:ext cx="18237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9" descr="C:\Users\rcookrit\Pictures\LLO_proposed_logo_white_background_special_colour (3).jpg"/>
          <p:cNvPicPr/>
          <p:nvPr/>
        </p:nvPicPr>
        <p:blipFill>
          <a:blip r:embed="rId1"/>
          <a:stretch/>
        </p:blipFill>
        <p:spPr>
          <a:xfrm>
            <a:off x="2782800" y="1112760"/>
            <a:ext cx="221472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108080" y="3496320"/>
            <a:ext cx="58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©2016 Laubach Literacy Ontario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mbria"/>
                <a:ea typeface="MS Mincho"/>
              </a:rPr>
              <a:t>This Employment Ontario project is funded in part by the Government of Canada and the Government of Ontario and through the Canada Ontario Job Fund Agreement.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1317600" y="4579920"/>
            <a:ext cx="5477040" cy="743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4481640" y="29181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In this section you will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Read and identify the elements of workplace notices, postings, and memorand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Deduce key information from these docu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Practice writing these types of documen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1" name="Picture 3" descr="posted-notice.png"/>
          <p:cNvPicPr/>
          <p:nvPr/>
        </p:nvPicPr>
        <p:blipFill>
          <a:blip r:embed="rId1"/>
          <a:stretch/>
        </p:blipFill>
        <p:spPr>
          <a:xfrm rot="20766000">
            <a:off x="1091880" y="3821040"/>
            <a:ext cx="3205080" cy="22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emo-pictogram.png"/>
          <p:cNvPicPr/>
          <p:nvPr/>
        </p:nvPicPr>
        <p:blipFill>
          <a:blip r:embed="rId2"/>
          <a:stretch/>
        </p:blipFill>
        <p:spPr>
          <a:xfrm>
            <a:off x="4816440" y="3868560"/>
            <a:ext cx="20239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Discussion 1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Think about the last job you had. Where were documents with work-related information, like notices, posted? Give an exampl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Calibri"/>
              </a:rPr>
              <a:t>If you've never had a job, where else have you seen notices posted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300400" y="3854520"/>
            <a:ext cx="3398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Notice/Post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417320"/>
            <a:ext cx="762012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at is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A general message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They often contain only a few lines of tex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They may contain a graphic or imag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Not addressed to  the individual, but rather to a larger grou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The reader must decide whether or not the information contained in the posting is applicable to them or no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4" descr="Deep-Thought.png"/>
          <p:cNvPicPr/>
          <p:nvPr/>
        </p:nvPicPr>
        <p:blipFill>
          <a:blip r:embed="rId1"/>
          <a:stretch/>
        </p:blipFill>
        <p:spPr>
          <a:xfrm>
            <a:off x="2527200" y="4003560"/>
            <a:ext cx="3645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Notice/Post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417320"/>
            <a:ext cx="762012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ere do I find i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Notices or postings are typically posted in a public area, where everyone in the workplace can access the in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f2b20"/>
                </a:solidFill>
                <a:latin typeface="Calibri"/>
              </a:rPr>
              <a:t>Bulletin boards, meeting areas, employee lounge, etc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Posting general workplace information in a public place this way is much more common than giving each employee a copy of the docu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1" name="Picture 6" descr="map-widget-europe.png"/>
          <p:cNvPicPr/>
          <p:nvPr/>
        </p:nvPicPr>
        <p:blipFill>
          <a:blip r:embed="rId1"/>
          <a:stretch/>
        </p:blipFill>
        <p:spPr>
          <a:xfrm>
            <a:off x="2465280" y="4119480"/>
            <a:ext cx="32544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Notice/Post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417320"/>
            <a:ext cx="762012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f2b20"/>
                </a:solidFill>
                <a:latin typeface="Calibri"/>
              </a:rPr>
              <a:t>Why is it importan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Employees are responsible for knowing any information that is contained within notices/po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07680" indent="-21708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f2b20"/>
                </a:solidFill>
                <a:latin typeface="Calibri"/>
              </a:rPr>
              <a:t>Developing a habit of checking for new notices/postings will keep you up to date on important events or news within the workpla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4" name="Picture 3" descr="warning2.png"/>
          <p:cNvPicPr/>
          <p:nvPr/>
        </p:nvPicPr>
        <p:blipFill>
          <a:blip r:embed="rId1"/>
          <a:stretch/>
        </p:blipFill>
        <p:spPr>
          <a:xfrm>
            <a:off x="2577960" y="3367080"/>
            <a:ext cx="3083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49576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675e47"/>
                </a:solidFill>
                <a:latin typeface="Cambria"/>
              </a:rPr>
              <a:t>Exemplar</a:t>
            </a:r>
            <a:endParaRPr b="0" lang="en-US" sz="2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2f2b20"/>
                </a:solidFill>
                <a:latin typeface="Calibri"/>
              </a:rPr>
              <a:t>Posting/Notic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7" name="Content Placeholder 4" descr=""/>
          <p:cNvPicPr/>
          <p:nvPr/>
        </p:nvPicPr>
        <p:blipFill>
          <a:blip r:embed="rId1"/>
          <a:srcRect l="2021" t="3650" r="2650" b="0"/>
          <a:stretch/>
        </p:blipFill>
        <p:spPr>
          <a:xfrm>
            <a:off x="428760" y="561960"/>
            <a:ext cx="5832360" cy="476244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68" name="TextBox 5"/>
          <p:cNvSpPr/>
          <p:nvPr/>
        </p:nvSpPr>
        <p:spPr>
          <a:xfrm>
            <a:off x="5595840" y="797040"/>
            <a:ext cx="269244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Title provides information about the purpose of the notic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411960" y="2476440"/>
            <a:ext cx="2008080" cy="146556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Important dates and times are found within the body text of the notic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595840" y="4575240"/>
            <a:ext cx="2692440" cy="916920"/>
          </a:xfrm>
          <a:prstGeom prst="rect">
            <a:avLst/>
          </a:prstGeom>
          <a:solidFill>
            <a:srgbClr val="95a39d"/>
          </a:solidFill>
          <a:ln w="25560">
            <a:solidFill>
              <a:srgbClr val="6c77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Pay attention to details like locations and specific instruction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71" name="Straight Arrow Connector 8"/>
          <p:cNvCxnSpPr>
            <a:stCxn id="68" idx="1"/>
          </p:cNvCxnSpPr>
          <p:nvPr/>
        </p:nvCxnSpPr>
        <p:spPr>
          <a:xfrm flipH="1" flipV="1">
            <a:off x="5020920" y="915120"/>
            <a:ext cx="575280" cy="34380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72" name="Straight Arrow Connector 12"/>
          <p:cNvCxnSpPr>
            <a:stCxn id="69" idx="1"/>
          </p:cNvCxnSpPr>
          <p:nvPr/>
        </p:nvCxnSpPr>
        <p:spPr>
          <a:xfrm flipH="1">
            <a:off x="2007360" y="3215880"/>
            <a:ext cx="440460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73" name="Straight Arrow Connector 14"/>
          <p:cNvCxnSpPr>
            <a:stCxn id="70" idx="1"/>
          </p:cNvCxnSpPr>
          <p:nvPr/>
        </p:nvCxnSpPr>
        <p:spPr>
          <a:xfrm flipH="1" flipV="1">
            <a:off x="4547880" y="4223880"/>
            <a:ext cx="1048320" cy="81360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600" spc="-1" strike="noStrike">
                <a:solidFill>
                  <a:srgbClr val="675e47"/>
                </a:solidFill>
                <a:latin typeface="Cambria"/>
              </a:rPr>
              <a:t>Activity 1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5" name="Content Placeholder 4" descr=""/>
          <p:cNvPicPr/>
          <p:nvPr/>
        </p:nvPicPr>
        <p:blipFill>
          <a:blip r:embed="rId1"/>
          <a:srcRect l="-543" t="0" r="-882" b="0"/>
          <a:stretch/>
        </p:blipFill>
        <p:spPr>
          <a:xfrm>
            <a:off x="1978200" y="1600200"/>
            <a:ext cx="4592520" cy="480060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3162240" y="426960"/>
            <a:ext cx="4915080" cy="825480"/>
          </a:xfrm>
          <a:prstGeom prst="rect">
            <a:avLst/>
          </a:pr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Answer the questions in your workbook using the example below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5:51:53Z</dcterms:created>
  <dc:creator>Shasta Ritchie</dc:creator>
  <dc:description/>
  <dc:language>en-US</dc:language>
  <cp:lastModifiedBy>Cook-Ritchie, Robyn</cp:lastModifiedBy>
  <dcterms:modified xsi:type="dcterms:W3CDTF">2017-01-24T20:02:56Z</dcterms:modified>
  <cp:revision>10</cp:revision>
  <dc:subject/>
  <dc:title>Reading Practical Workplace Communications</dc:title>
</cp:coreProperties>
</file>